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cs-CZ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cs-CZ" sz="1200" spc="-1" strike="noStrike">
                <a:solidFill>
                  <a:srgbClr val="000000"/>
                </a:solidFill>
                <a:latin typeface="Myriad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6C55F3-B446-4C6A-89FB-93FEEA0E8E7E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49840" y="9437760"/>
            <a:ext cx="2944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6F644DC-7EBD-465E-90E6-524D42E45BB3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4400" cy="372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2124000" y="755640"/>
            <a:ext cx="254808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79320" y="4713480"/>
            <a:ext cx="5415120" cy="44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AEF8F0-6F36-4297-A64B-AECBFD005512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F6192A-EE08-46D1-A2E0-E12F5B22B857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5F430D-B6D8-4318-B2CF-DA604AA87A90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45A758-9046-4F72-87C9-604B37C93153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8799DC-C9FC-412F-BFDE-E8EFCD1D0A58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DEB079-CBCC-426D-B80A-92D38323C3A5}" type="slidenum">
              <a:rPr b="0" lang="cs-CZ" sz="1200" spc="-1" strike="noStrike">
                <a:solidFill>
                  <a:srgbClr val="000000"/>
                </a:solidFill>
                <a:latin typeface="Myriad Pro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60" y="404748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400" y="220464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360" y="404748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400" y="404748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264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0800" y="2204640"/>
            <a:ext cx="264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33240" y="2204640"/>
            <a:ext cx="264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360" y="4047480"/>
            <a:ext cx="264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0800" y="4047480"/>
            <a:ext cx="264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33240" y="4047480"/>
            <a:ext cx="264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15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400" y="2204640"/>
            <a:ext cx="4015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268280"/>
            <a:ext cx="82296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204640"/>
            <a:ext cx="4015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68360" y="404748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158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220464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400" y="404748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2204640"/>
            <a:ext cx="40158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60" y="404748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2204640"/>
            <a:ext cx="82296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8920" indent="-27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7000" indent="-220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50520" indent="-220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2203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2203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22032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534160" cy="304776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Garamond"/>
              </a:rPr>
              <a:t>Efektivní nemocnice 2012</a:t>
            </a:r>
            <a:br>
              <a:rPr sz="4400"/>
            </a:br>
            <a:br>
              <a:rPr sz="4400"/>
            </a:br>
            <a:r>
              <a:rPr b="1" i="1" lang="cs-CZ" sz="4000" spc="-1" strike="noStrike">
                <a:solidFill>
                  <a:srgbClr val="ffffff"/>
                </a:solidFill>
                <a:latin typeface="Garamond"/>
              </a:rPr>
              <a:t>Změny v legislativě a první praktické zkušenosti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6920" y="5084280"/>
            <a:ext cx="720252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429e3"/>
                </a:solidFill>
                <a:latin typeface="Garamond"/>
                <a:ea typeface="Times New Roman"/>
              </a:rPr>
              <a:t>Jolana Těšin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2124000" y="5157720"/>
            <a:ext cx="5148360" cy="0"/>
          </a:xfrm>
          <a:prstGeom prst="line">
            <a:avLst/>
          </a:prstGeom>
          <a:ln w="19080">
            <a:solidFill>
              <a:srgbClr val="442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"/>
          <p:cNvSpPr/>
          <p:nvPr/>
        </p:nvSpPr>
        <p:spPr>
          <a:xfrm>
            <a:off x="900000" y="-549720"/>
            <a:ext cx="7344000" cy="777348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r>
              <a:rPr b="1" i="1" lang="cs-CZ" sz="3600" spc="-1" strike="noStrike">
                <a:solidFill>
                  <a:srgbClr val="ffffff"/>
                </a:solidFill>
                <a:latin typeface="Garamond"/>
              </a:rPr>
              <a:t>Zákon o zdravotních službách a podmínkách jejich poskytován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r>
              <a:rPr b="1" i="1" lang="cs-CZ" sz="3600" spc="-1" strike="noStrike">
                <a:solidFill>
                  <a:srgbClr val="ffffff"/>
                </a:solidFill>
                <a:latin typeface="Garamond"/>
              </a:rPr>
              <a:t>č. 372/2011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r>
              <a:rPr b="1" i="1" lang="cs-CZ" sz="3600" spc="-1" strike="noStrike">
                <a:solidFill>
                  <a:srgbClr val="ffffff"/>
                </a:solidFill>
                <a:latin typeface="Garamond"/>
              </a:rPr>
              <a:t>Zákon o specifických zdravotních službách č. 373/2011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r>
              <a:rPr b="1" i="1" lang="cs-CZ" sz="3600" spc="-1" strike="noStrike">
                <a:solidFill>
                  <a:srgbClr val="ffffff"/>
                </a:solidFill>
                <a:latin typeface="Garamond"/>
              </a:rPr>
              <a:t>Zákon o zdravotnické záchranné službě č. 374/2011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457200" y="1604880"/>
            <a:ext cx="822960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Zákon o zdravotních službác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1676520"/>
            <a:ext cx="9144000" cy="484812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ávní jistota rozhodovací činnosti léka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finice neodkladné péče 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končení péče o pacient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kceptace dříve projevené vůle pacienta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468360" y="6237360"/>
            <a:ext cx="8675640" cy="0"/>
          </a:xfrm>
          <a:prstGeom prst="line">
            <a:avLst/>
          </a:prstGeom>
          <a:ln w="19080">
            <a:solidFill>
              <a:srgbClr val="442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57200"/>
            <a:ext cx="485640" cy="976320"/>
          </a:xfrm>
          <a:prstGeom prst="downArrow">
            <a:avLst>
              <a:gd name="adj1" fmla="val 49676"/>
              <a:gd name="adj2" fmla="val 4641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96080" y="457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Zákon o zdravotních službác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0" y="1676520"/>
            <a:ext cx="9144000" cy="484812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9848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utonomie pacie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zástupný souhlas osob určených zákon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říve vyslovené př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vévolné opuštění zdravotnického za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68360" y="6237360"/>
            <a:ext cx="8675640" cy="0"/>
          </a:xfrm>
          <a:prstGeom prst="line">
            <a:avLst/>
          </a:prstGeom>
          <a:ln w="19080">
            <a:solidFill>
              <a:srgbClr val="442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457200"/>
            <a:ext cx="485640" cy="976320"/>
          </a:xfrm>
          <a:prstGeom prst="downArrow">
            <a:avLst>
              <a:gd name="adj1" fmla="val 49676"/>
              <a:gd name="adj2" fmla="val 46415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6080" y="4572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Zákon o zdravotních službách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0" y="1676520"/>
            <a:ext cx="9144000" cy="484812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áva pacienta a povinnosti poskytovat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áva pacienta -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vinnosti poskytovatele a zdravotnického pracovníka –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právních deliktů - 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vinnosti pacienta -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áva zdravotnického pracovníka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468360" y="6237360"/>
            <a:ext cx="8675640" cy="0"/>
          </a:xfrm>
          <a:prstGeom prst="line">
            <a:avLst/>
          </a:prstGeom>
          <a:ln w="19080">
            <a:solidFill>
              <a:srgbClr val="442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mages" descr=""/>
          <p:cNvPicPr/>
          <p:nvPr/>
        </p:nvPicPr>
        <p:blipFill>
          <a:blip r:embed="rId1"/>
          <a:stretch/>
        </p:blipFill>
        <p:spPr>
          <a:xfrm>
            <a:off x="7315200" y="380880"/>
            <a:ext cx="1531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1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Právní odpovědnost poskytovatele zdravotních služeb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2060640"/>
            <a:ext cx="9144000" cy="442764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98480" indent="-342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Žaloby na náhradu škod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a zdraví a žaloby na ochranu osobnosti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4272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okuty za správní delikt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68360" y="6237360"/>
            <a:ext cx="8675640" cy="0"/>
          </a:xfrm>
          <a:prstGeom prst="line">
            <a:avLst/>
          </a:prstGeom>
          <a:ln w="19080">
            <a:solidFill>
              <a:srgbClr val="442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6629400" y="4952880"/>
            <a:ext cx="2251080" cy="1683000"/>
          </a:xfrm>
          <a:prstGeom prst="rect">
            <a:avLst/>
          </a:prstGeom>
          <a:ln w="0">
            <a:noFill/>
          </a:ln>
        </p:spPr>
      </p:pic>
      <p:pic>
        <p:nvPicPr>
          <p:cNvPr id="68" name="images" descr=""/>
          <p:cNvPicPr/>
          <p:nvPr/>
        </p:nvPicPr>
        <p:blipFill>
          <a:blip r:embed="rId2"/>
          <a:stretch/>
        </p:blipFill>
        <p:spPr>
          <a:xfrm>
            <a:off x="6400800" y="1143000"/>
            <a:ext cx="27432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25360"/>
            <a:ext cx="8229600" cy="5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 </a:t>
            </a: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Zdravotnická reforma 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0" y="2060640"/>
            <a:ext cx="9144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98480" indent="-342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2389320" cy="3375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2388960" cy="337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3"/>
          <a:stretch/>
        </p:blipFill>
        <p:spPr>
          <a:xfrm>
            <a:off x="3657600" y="2057400"/>
            <a:ext cx="23893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5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cs-CZ" sz="3600" spc="-1" strike="noStrike">
                <a:solidFill>
                  <a:srgbClr val="4429e3"/>
                </a:solidFill>
                <a:latin typeface="Garamond"/>
              </a:rPr>
              <a:t>Děkuji za Vaši pozornost!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060640"/>
            <a:ext cx="9144000" cy="3924360"/>
          </a:xfrm>
          <a:prstGeom prst="rect">
            <a:avLst/>
          </a:prstGeom>
          <a:solidFill>
            <a:srgbClr val="4429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f81bd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4f81bd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MUDr. Mgr. Jolana Těšin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Ústav veřejného zdravotnictví a medicínského 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práva 1. LF UK v Pra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jolana.tesinova</a:t>
            </a:r>
            <a:r>
              <a:rPr b="1" lang="en-US" sz="3200" spc="-1" strike="noStrike">
                <a:solidFill>
                  <a:srgbClr val="53f7fb"/>
                </a:solidFill>
                <a:latin typeface="Garamond"/>
              </a:rPr>
              <a:t>@</a:t>
            </a: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health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 </a:t>
            </a: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	</a:t>
            </a:r>
            <a:r>
              <a:rPr b="1" lang="cs-CZ" sz="3200" spc="-1" strike="noStrike">
                <a:solidFill>
                  <a:srgbClr val="53f7fb"/>
                </a:solidFill>
                <a:latin typeface="Garamond"/>
              </a:rPr>
              <a:t>www.medicinskepravo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68360" y="2708280"/>
            <a:ext cx="8675640" cy="0"/>
          </a:xfrm>
          <a:prstGeom prst="line">
            <a:avLst/>
          </a:prstGeom>
          <a:ln w="38160">
            <a:solidFill>
              <a:srgbClr val="4429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8:15:39Z</dcterms:created>
  <dc:creator>lukáš</dc:creator>
  <dc:description/>
  <dc:language>en-US</dc:language>
  <cp:lastModifiedBy>Bruthansová</cp:lastModifiedBy>
  <dcterms:modified xsi:type="dcterms:W3CDTF">2012-11-27T13:10:53Z</dcterms:modified>
  <cp:revision>391</cp:revision>
  <dc:subject/>
  <dc:title>Snímek 1</dc:title>
</cp:coreProperties>
</file>