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BC06-909E-4BDC-ACC6-924D8CA3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8124-F093-4E14-AAFE-DBBFA431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DE64-3BB6-4519-B7DC-3A32D899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A80E-50E0-47F9-998D-04967664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A6D6-0B6D-4142-A3BE-3CDA4EB1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99B8-FF7E-4942-9D5F-62E7F3DE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BD6B-DDC5-4958-AD97-27D72E30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4429-6E78-4961-A071-4E4A7559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2B1B-3729-449C-891B-448FCA74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A579-9211-4BF9-8A37-B2D57E73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4261-7571-4036-B8DA-674408D4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B5F7-C72D-4B7B-9D5B-F86687C7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B712-456F-4407-95D4-8EC9922E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8D92-2FE8-40F5-8EA6-0A411587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FF19-9686-4E87-A175-A06557A1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1E29-3565-4E2F-9C7D-6A2CD35B0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B4F5-58A9-41CA-BAAB-97C35B450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8C33-9830-43CC-A6EC-D42B8D9C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3327-AEB7-4146-93AC-83E41160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1DE3-68E8-4723-914C-3260F722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6D7-22B1-4FC2-91C0-FF3D8AD9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004D-5A11-4E3F-974B-E673AA70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173F-9EBD-4C3C-9955-018BBFF5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0962-C502-478F-A80D-169D5423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7d2f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8740-25EC-4E57-9402-DFF7811E01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805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7d2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805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7d2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7d2f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4AAC-132C-4EB7-B8E1-F92790BAAB27}" type="slidenum">
              <a:rPr b="0" lang="cs-CZ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831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emocnice sv. Zdislavy a.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987280" y="3213000"/>
            <a:ext cx="4969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entrum robotické chirurgie Vysoči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7.11.201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DSC_7261_resize"/>
          <p:cNvPicPr/>
          <p:nvPr/>
        </p:nvPicPr>
        <p:blipFill>
          <a:blip r:embed="rId1"/>
          <a:stretch/>
        </p:blipFill>
        <p:spPr>
          <a:xfrm>
            <a:off x="5148360" y="4076640"/>
            <a:ext cx="374328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00 operací ročně = čistá nula zis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jdražší robot = robot, který málo operuj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náme pracoviště, která operují pouze 1 diagnózu jako základní program (1000 RAPE za jeden ro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še pracoviště jde cestou rozvoje asi 7 typů operací (urologie - chirurgi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le našeho názoru je schopen 1 robot zvládnout v jednom roce 350 – 370 výkon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Jaké je optimální vytížení robota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 čem je háček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stavit erudovaný tým lékařů i sester, kteří zvládnou v určitém čase křivku učení 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o se mnohde nepodařilo a tudíž se neoperoval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Learning curve = 100 výkonů (naše zkušeno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ostatečný počet pacientů v jednom roce pro danou diagnóz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polupráce a návaznost na onkologická cent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polupráce s MOÚ Brn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02920" y="1905120"/>
            <a:ext cx="713124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d samého začátku činnosti Centra robotické chirurgie Vysočina úzce spolupracujeme s Masarykovým onkologickým ústavem v Brně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spektujeme standarty onkologické péče tohoto ústav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d roku 2008 jsme smluvními partnery pro poskytování robotických operací pacientům MOÚ a jsme začleněni do komplexního onkologického centra tohoto ústav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Jaká budoucnost daVinci chirurgie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etoda se nadále rozvíjí po technické strá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Je stále vyhledávanější ze strany pacient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Je akceptována většinou odborných lékařských společnost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ystémy daVinci nakupuje ve světě stále více nemocn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ní podstatné, zda se tyto výkony provádějí v malých či velkých nemocnicí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dstatné je zda pracoviště umí tuto metodu po odborné a organizační stránce zvládn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2016000" y="2924280"/>
            <a:ext cx="71280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O nemocnic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6920" y="1905120"/>
            <a:ext cx="73472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Jediné privátní lůžkové zdravotnické zařízení na Vysočin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louží pacientům z regionu Velkomeziříčska (65 000 obyvatel) ale v současné době je vyhledávána pacienty z celé Č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aždoročně operujeme řadu zahraničních pacientů zejména na ortopedii a v centru robotické chirurg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jčastěji se jedná o pacienty z Rakouska, Německa a Španěls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Robotické operace daVinc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vádíme v našem centru od 1.5.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 letošním roce bude odoperováno 350 pacientů, tj. celkový počet za dobu naší činnosti 1547 pacient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a našem pracovišti jsou operováni urologičtí a chirurgičtí nemoc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e většině se jedná o onkologické diagnóz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iz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58920" y="1905120"/>
            <a:ext cx="7275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Chceme být špičkovým centrem robotické chirurgie které je největším poskytovatelem v ČR a mezi 10-ti největšími centry v Evropě (počet výkonů na jeden systém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oskytujeme školení kolegů z evropských států, Saudské Arábie, Emirátů, Ruska. Naše týmy často operují v zahraničí a předvádějí ukázkové výkon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mocnice ctí hodnoty a potřeby klientů a zaměřuje se na jejich naplnění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4720" y="1628640"/>
            <a:ext cx="7129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áš cíl: kvalitně léčený a spokojený paci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báme na individuální přístup k pacientov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tváříme program kontinuálníh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vyšování kvality péč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aměstnáváme špičkové odborník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egistrujeme minimální fluktuaci zaměstnanců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báme o dobrou pověs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 důvěru obecné veřejnost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ledujeme a analyzujeme výsledky spokojenosti klientů i personálu nemocni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DSC_7264_resize"/>
          <p:cNvPicPr/>
          <p:nvPr/>
        </p:nvPicPr>
        <p:blipFill>
          <a:blip r:embed="rId1"/>
          <a:stretch/>
        </p:blipFill>
        <p:spPr>
          <a:xfrm>
            <a:off x="6993000" y="2781360"/>
            <a:ext cx="21510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očty výkonů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39592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007 – 100 oper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008 – 240 oper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009 – 266 oper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010 – 272 oper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011 – 313 oper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2012 – 350 oper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Celkem 1547 oper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sal_16-kopie"/>
          <p:cNvPicPr/>
          <p:nvPr/>
        </p:nvPicPr>
        <p:blipFill>
          <a:blip r:embed="rId1"/>
          <a:stretch/>
        </p:blipFill>
        <p:spPr>
          <a:xfrm>
            <a:off x="4572000" y="3435480"/>
            <a:ext cx="45720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2961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pektrum výkonů, které jsme provedl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504036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adikální prostatektom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arciální resekce ledvi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yeloplasti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sekce žalud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sekce rek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sal_28-kopie"/>
          <p:cNvPicPr/>
          <p:nvPr/>
        </p:nvPicPr>
        <p:blipFill>
          <a:blip r:embed="rId1"/>
          <a:stretch/>
        </p:blipFill>
        <p:spPr>
          <a:xfrm>
            <a:off x="5508720" y="2060640"/>
            <a:ext cx="33480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řínos daVinci systému pro pacient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jvyšší stupeň miniinvazivního opero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ízká zátěž pacienta výkon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rátká doba rekonvalescence a pracovní neschopnos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Nesrovnatelně nižší krevní ztrá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ýrazný výsledek funkční (inkontinence po RAP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řínos systému daVinci pro nemocnic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3692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ásadním způsobem pozitivně ovlivňuje popularitu a zájem pacientů o dané pracoviš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nižuje provozní náklady v pooperační péč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Je atraktivní pro lékaře, sestry i ostatní personá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 onkologicky nemocných, které je třeba léčit chirurgicky představuje náklad na vlastní operaci (např. 136 000 Kč za RAPE) částku která ve srovnání s ostatními náklady na onkologickou péči vychází jako nízk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pokojený pacient s dobrým funkčním výsledkem po operaci se do zařízení obvykle vrací i k jiným operacím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09:00:03Z</dcterms:created>
  <dc:creator>Karel</dc:creator>
  <dc:description/>
  <dc:language>en-US</dc:language>
  <cp:lastModifiedBy>Jája a Pája</cp:lastModifiedBy>
  <dcterms:modified xsi:type="dcterms:W3CDTF">2012-11-19T08:41:31Z</dcterms:modified>
  <cp:revision>26</cp:revision>
  <dc:subject/>
  <dc:title>Robotická chirurgie</dc:title>
</cp:coreProperties>
</file>