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6"/>
                </a:solidFill>
                <a:latin typeface="Trebuchet MS"/>
              </a:rPr>
              <a:t>Click to move the slide</a:t>
            </a: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95D1-9857-4D88-A9C2-1A89E25591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3F4F-7CB8-4E61-9303-EC4E42F2E0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039480"/>
            <a:ext cx="822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03948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03948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039480"/>
            <a:ext cx="264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039480"/>
            <a:ext cx="264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039480"/>
            <a:ext cx="264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03948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03948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039480"/>
            <a:ext cx="8229600" cy="168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4a6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8f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545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8fd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5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54a6"/>
                </a:solidFill>
                <a:latin typeface="Trebuchet MS"/>
              </a:rPr>
              <a:t>„</a:t>
            </a:r>
            <a:r>
              <a:rPr b="1" lang="cs-CZ" sz="4400" spc="-1" strike="noStrike">
                <a:solidFill>
                  <a:srgbClr val="0054a6"/>
                </a:solidFill>
                <a:latin typeface="Trebuchet MS"/>
              </a:rPr>
              <a:t>Efektivní nemocnice 2012“</a:t>
            </a:r>
            <a:br>
              <a:rPr sz="4400"/>
            </a:br>
            <a:r>
              <a:rPr b="1" lang="cs-CZ" sz="2800" spc="-1" strike="noStrike">
                <a:solidFill>
                  <a:srgbClr val="0054a6"/>
                </a:solidFill>
                <a:latin typeface="Trebuchet MS"/>
              </a:rPr>
              <a:t>Strategie nemocnic a zdravotních pojišťoven</a:t>
            </a:r>
            <a:endParaRPr b="1" lang="en-US" sz="28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640" y="2349360"/>
            <a:ext cx="770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545456"/>
                </a:solidFill>
                <a:latin typeface="Trebuchet MS"/>
              </a:rPr>
              <a:t>SMĚRY A TRENDY VZDĚLÁVÁNÍ VE ZDRAVOTNICTVÍ</a:t>
            </a:r>
            <a:endParaRPr b="0" lang="en-US" sz="40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1042920" y="3860640"/>
            <a:ext cx="769788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45456"/>
                </a:solidFill>
                <a:latin typeface="Trebuchet MS"/>
              </a:rPr>
              <a:t>MUDr. Vladimír Pavel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45456"/>
                </a:solidFill>
                <a:latin typeface="Trebuchet MS"/>
              </a:rPr>
              <a:t>Ředitel Institutu postgraduálního vzdělávání ve zdravo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Děkuji za pozornost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MUDr. Vladimír Pavelka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Ředitel IPVZ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545456"/>
                </a:solidFill>
                <a:latin typeface="Trebuchet MS"/>
              </a:rPr>
              <a:t>Ruská 85, Praha 10</a:t>
            </a:r>
            <a:endParaRPr b="0" lang="en-US" sz="20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54a6"/>
                </a:solidFill>
                <a:latin typeface="Trebuchet MS"/>
              </a:rPr>
              <a:t>Vývoj vzdělávání od roku 2004</a:t>
            </a:r>
            <a:endParaRPr b="1" lang="en-US" sz="36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Zákon č. 95/2004 Sb., lékaři, zubní lékaři a farmaceuti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Řešil 84 </a:t>
            </a:r>
            <a:r>
              <a:rPr b="1" lang="cs-CZ" sz="3200" spc="-1" strike="noStrike" u="sng">
                <a:solidFill>
                  <a:srgbClr val="0070c0"/>
                </a:solidFill>
                <a:uFillTx/>
                <a:latin typeface="Trebuchet MS"/>
              </a:rPr>
              <a:t>základních oborů </a:t>
            </a: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– v příloze zákona: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pouze jeden stupeň specializace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45456"/>
                </a:solidFill>
                <a:latin typeface="Trebuchet MS"/>
              </a:rPr>
              <a:t>došlo ke zrušení zavedeného dvoustupňového systému atestací</a:t>
            </a: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54a6"/>
                </a:solidFill>
                <a:latin typeface="Trebuchet MS"/>
              </a:rPr>
              <a:t>Změna v roce 2009 </a:t>
            </a:r>
            <a:br>
              <a:rPr sz="3600"/>
            </a:br>
            <a:r>
              <a:rPr b="1" lang="cs-CZ" sz="3600" spc="-1" strike="noStrike">
                <a:solidFill>
                  <a:srgbClr val="0054a6"/>
                </a:solidFill>
                <a:latin typeface="Trebuchet MS"/>
                <a:ea typeface="Arial"/>
              </a:rPr>
              <a:t>Vyhlášky č. 185/2009 Sb.</a:t>
            </a:r>
            <a:r>
              <a:rPr b="1" lang="cs-CZ" sz="3600" spc="-1" strike="noStrike">
                <a:solidFill>
                  <a:srgbClr val="0054a6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628640"/>
            <a:ext cx="4038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nesteziologický 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gynekologicko-porodnický 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hygienický 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chirurgický 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interní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2920" y="1557000"/>
            <a:ext cx="40388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patologický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pediatrický 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psychiatrický 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radiologický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rebuchet MS"/>
                <a:ea typeface="Arial"/>
              </a:rPr>
              <a:t>všeobecné praktické     lékařství</a:t>
            </a:r>
            <a:endParaRPr b="0" lang="en-US" sz="24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53" name="Obdélník 5"/>
          <p:cNvSpPr/>
          <p:nvPr/>
        </p:nvSpPr>
        <p:spPr>
          <a:xfrm flipV="1" rot="10800000">
            <a:off x="1042920" y="4436640"/>
            <a:ext cx="74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Obory rozděleny na základní a nástavbov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Zavedeny </a:t>
            </a:r>
            <a:r>
              <a:rPr b="1" lang="cs-CZ" sz="2800" spc="-1" strike="noStrike" u="sng">
                <a:solidFill>
                  <a:srgbClr val="0070c0"/>
                </a:solidFill>
                <a:uFillTx/>
                <a:latin typeface="Trebuchet MS"/>
              </a:rPr>
              <a:t>základní kmeny</a:t>
            </a:r>
            <a:r>
              <a:rPr b="1" lang="cs-CZ" sz="2800" spc="-1" strike="noStrike">
                <a:solidFill>
                  <a:srgbClr val="0070c0"/>
                </a:solidFill>
                <a:latin typeface="Trebuchet MS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Trebuchet MS"/>
              </a:rPr>
              <a:t>– 10 kmen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54a6"/>
                </a:solidFill>
                <a:latin typeface="Trebuchet MS"/>
              </a:rPr>
              <a:t>Změna v roce 2011 </a:t>
            </a:r>
            <a:br>
              <a:rPr sz="3600"/>
            </a:br>
            <a:r>
              <a:rPr b="1" lang="cs-CZ" sz="3600" spc="-1" strike="noStrike">
                <a:solidFill>
                  <a:srgbClr val="0054a6"/>
                </a:solidFill>
                <a:latin typeface="Trebuchet MS"/>
              </a:rPr>
              <a:t>novela Vyhlášky č. 185/2009 Sb. </a:t>
            </a:r>
            <a:br>
              <a:rPr sz="3600"/>
            </a:br>
            <a:r>
              <a:rPr b="1" lang="cs-CZ" sz="36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6 nových kmenů</a:t>
            </a:r>
            <a:endParaRPr b="1" lang="en-US" sz="36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28480" y="170028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anesteziologický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31145"/>
                </a:solidFill>
                <a:latin typeface="Trebuchet MS"/>
                <a:ea typeface="Arial"/>
              </a:rPr>
              <a:t> </a:t>
            </a:r>
            <a:r>
              <a:rPr b="1" lang="cs-CZ" sz="1800" spc="-1" strike="noStrike" u="sng">
                <a:solidFill>
                  <a:srgbClr val="0070c0"/>
                </a:solidFill>
                <a:uFillTx/>
                <a:latin typeface="Trebuchet MS"/>
                <a:ea typeface="Arial"/>
              </a:rPr>
              <a:t>dermatovenerologický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gynekologicko-porodnický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hygienický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chirurgický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interní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31145"/>
                </a:solidFill>
                <a:latin typeface="Trebuchet MS"/>
                <a:ea typeface="Arial"/>
              </a:rPr>
              <a:t> </a:t>
            </a:r>
            <a:r>
              <a:rPr b="1" lang="cs-CZ" sz="1800" spc="-1" strike="noStrike" u="sng">
                <a:solidFill>
                  <a:srgbClr val="0070c0"/>
                </a:solidFill>
                <a:uFillTx/>
                <a:latin typeface="Trebuchet MS"/>
                <a:ea typeface="Arial"/>
              </a:rPr>
              <a:t>neurologický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Trebuchet MS"/>
                <a:ea typeface="Arial"/>
              </a:rPr>
              <a:t> </a:t>
            </a:r>
            <a:r>
              <a:rPr b="1" lang="cs-CZ" sz="1800" spc="-1" strike="noStrike" u="sng">
                <a:solidFill>
                  <a:srgbClr val="0070c0"/>
                </a:solidFill>
                <a:uFillTx/>
                <a:latin typeface="Trebuchet MS"/>
                <a:ea typeface="Arial"/>
              </a:rPr>
              <a:t>oftalmologický 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 lvl="3" marL="1081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56"/>
              </a:solidFill>
              <a:latin typeface="Trebuchet MS"/>
            </a:endParaRPr>
          </a:p>
          <a:p>
            <a:pPr lvl="3" marL="1081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rebuchet MS"/>
                <a:ea typeface="Arial"/>
              </a:rPr>
              <a:t>Délku specializačního vzdělávání stanoví příslušný vzdělávací program.</a:t>
            </a:r>
            <a:endParaRPr b="0" lang="en-US" sz="2000" spc="-1" strike="noStrike">
              <a:solidFill>
                <a:srgbClr val="54545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56"/>
              </a:solidFill>
              <a:latin typeface="Trebuchet MS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716360" y="1978200"/>
            <a:ext cx="358308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Trebuchet MS"/>
                <a:ea typeface="Arial"/>
              </a:rPr>
              <a:t> </a:t>
            </a:r>
            <a:r>
              <a:rPr b="1" lang="cs-CZ" sz="1800" spc="-1" strike="noStrike" u="sng">
                <a:solidFill>
                  <a:srgbClr val="0070c0"/>
                </a:solidFill>
                <a:uFillTx/>
                <a:latin typeface="Trebuchet MS"/>
                <a:ea typeface="Arial"/>
              </a:rPr>
              <a:t>otorinolaryngolog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Trebuchet MS"/>
                <a:ea typeface="Arial"/>
              </a:rPr>
              <a:t> </a:t>
            </a:r>
            <a:r>
              <a:rPr b="1" lang="cs-CZ" sz="1800" spc="-1" strike="noStrike" u="sng">
                <a:solidFill>
                  <a:srgbClr val="0070c0"/>
                </a:solidFill>
                <a:uFillTx/>
                <a:latin typeface="Trebuchet MS"/>
                <a:ea typeface="Arial"/>
              </a:rPr>
              <a:t>ortoped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patolog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pedia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psychia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radiologic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d31145"/>
                </a:solidFill>
                <a:latin typeface="Trebuchet MS"/>
                <a:ea typeface="Arial"/>
              </a:rPr>
              <a:t> </a:t>
            </a:r>
            <a:r>
              <a:rPr b="1" lang="cs-CZ" sz="1800" spc="-1" strike="noStrike" u="sng">
                <a:solidFill>
                  <a:srgbClr val="0070c0"/>
                </a:solidFill>
                <a:uFillTx/>
                <a:latin typeface="Trebuchet MS"/>
                <a:ea typeface="Arial"/>
              </a:rPr>
              <a:t>urologický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Trebuchet MS"/>
                <a:ea typeface="Arial"/>
              </a:rPr>
              <a:t>všeobecné praktické lékařst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54a6"/>
                </a:solidFill>
                <a:latin typeface="Trebuchet MS"/>
              </a:rPr>
              <a:t>Vývoj počtu lékařů ve vybraných oborech dle hlavního oboru činnosti</a:t>
            </a:r>
            <a:endParaRPr b="1" lang="en-US" sz="2400" spc="-1" strike="noStrike">
              <a:solidFill>
                <a:srgbClr val="0054a6"/>
              </a:solidFill>
              <a:latin typeface="Trebuchet M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11280" y="1197000"/>
          <a:ext cx="7812000" cy="4344840"/>
        </p:xfrm>
        <a:graphic>
          <a:graphicData uri="http://schemas.openxmlformats.org/drawingml/2006/table">
            <a:tbl>
              <a:tblPr/>
              <a:tblGrid>
                <a:gridCol w="4579920"/>
                <a:gridCol w="807840"/>
                <a:gridCol w="808200"/>
                <a:gridCol w="807840"/>
                <a:gridCol w="808200"/>
              </a:tblGrid>
              <a:tr h="434880">
                <a:tc rowSpan="2">
                  <a:txBody>
                    <a:bodyPr lIns="8280" rIns="8280" tIns="82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2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lékařů celkem v ro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ůst/pokles oproti roku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esteziologie a resuscit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matovener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ie a porodnic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rur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í lékař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nická onk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r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alm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pe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orinolaryng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diat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iat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diagnosti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terap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17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šeobecné lékař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54a6"/>
                </a:solidFill>
                <a:latin typeface="Trebuchet MS"/>
              </a:rPr>
              <a:t>Vývoj počtu lékařů ve vybraných oborech dle dosažené specializované způsobilosti</a:t>
            </a:r>
            <a:endParaRPr b="1" lang="en-US" sz="2400" spc="-1" strike="noStrike">
              <a:solidFill>
                <a:srgbClr val="0054a6"/>
              </a:solidFill>
              <a:latin typeface="Trebuchet MS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5640" y="1413000"/>
          <a:ext cx="7561440" cy="4055760"/>
        </p:xfrm>
        <a:graphic>
          <a:graphicData uri="http://schemas.openxmlformats.org/drawingml/2006/table">
            <a:tbl>
              <a:tblPr/>
              <a:tblGrid>
                <a:gridCol w="3441600"/>
                <a:gridCol w="1030320"/>
                <a:gridCol w="1028880"/>
                <a:gridCol w="1030320"/>
                <a:gridCol w="1030320"/>
              </a:tblGrid>
              <a:tr h="4359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or specializačního vzdělá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ty lékařů 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ůst pokles oproti roku 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esteziologie a intenzivní medic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é lékař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ie a porodnic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rur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r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alm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orinolaryng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ped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tické lékařství pro děti a dor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iat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logie a zobrazovací meto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gentní medic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olog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nitřní lékař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šeobecné praktické lékař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TextovéPole 6"/>
          <p:cNvSpPr/>
          <p:nvPr/>
        </p:nvSpPr>
        <p:spPr>
          <a:xfrm>
            <a:off x="5076720" y="5594400"/>
            <a:ext cx="32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*Pozn.: U PLDD použit údaj z roku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54a6"/>
                </a:solidFill>
                <a:latin typeface="Trebuchet MS"/>
              </a:rPr>
              <a:t>Porovnání počtu lékařů dle hlavního oboru a dle dosažené specializované způsobilosti ve vybraných oborech za rok 2011</a:t>
            </a:r>
            <a:br>
              <a:rPr sz="2400"/>
            </a:br>
            <a:endParaRPr b="1" lang="en-US" sz="2400" spc="-1" strike="noStrike">
              <a:solidFill>
                <a:srgbClr val="0054a6"/>
              </a:solidFill>
              <a:latin typeface="Trebuchet MS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11280" y="1258920"/>
          <a:ext cx="7993080" cy="4738680"/>
        </p:xfrm>
        <a:graphic>
          <a:graphicData uri="http://schemas.openxmlformats.org/drawingml/2006/table">
            <a:tbl>
              <a:tblPr/>
              <a:tblGrid>
                <a:gridCol w="3321000"/>
                <a:gridCol w="1440000"/>
                <a:gridCol w="1441440"/>
                <a:gridCol w="895320"/>
                <a:gridCol w="895320"/>
              </a:tblGrid>
              <a:tr h="372240"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obor či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zovaná způsobil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měr spec. zb ku hl. ob. Činnos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esteziologie a intenzivní medicí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matovener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é lékařství – pediat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betolgie a endokrin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roenter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ie a porodnic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rur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di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nická onk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r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alm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ped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orinolaryng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tické lékařství pro děti a doro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iatr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logie a zobrazovací metod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ilitační a fyzikální medicí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mat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olog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nítřní lékařs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šeobecné praktické lékařstv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6840" rIns="6840" tIns="68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7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4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54a6"/>
                </a:solidFill>
                <a:latin typeface="Trebuchet MS"/>
              </a:rPr>
              <a:t>Srovnání vývoje počtu lékařů v hlavním oboru a se specializací ve vybraných oborech</a:t>
            </a:r>
            <a:endParaRPr b="1" lang="en-US" sz="2400" spc="-1" strike="noStrike">
              <a:solidFill>
                <a:srgbClr val="0054a6"/>
              </a:solidFill>
              <a:latin typeface="Trebuchet MS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71640" y="1557360"/>
          <a:ext cx="7115040" cy="3190680"/>
        </p:xfrm>
        <a:graphic>
          <a:graphicData uri="http://schemas.openxmlformats.org/drawingml/2006/table">
            <a:tbl>
              <a:tblPr/>
              <a:tblGrid>
                <a:gridCol w="3689280"/>
                <a:gridCol w="855720"/>
                <a:gridCol w="857160"/>
                <a:gridCol w="855720"/>
                <a:gridCol w="857160"/>
              </a:tblGrid>
              <a:tr h="28404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rustky* počtu lékař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lavním ob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specializac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b7dee8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ie a pordnict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ru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ur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talm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tope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ychiat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olo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šeobecné lékařství/VP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-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ovéPole 6"/>
          <p:cNvSpPr/>
          <p:nvPr/>
        </p:nvSpPr>
        <p:spPr>
          <a:xfrm>
            <a:off x="1835280" y="4941720"/>
            <a:ext cx="62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n.: Přírustek je vyjádřen porovnáním počtu lékařů v oborech v roce 2001 a v roc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54a6"/>
                </a:solidFill>
                <a:latin typeface="Trebuchet MS"/>
              </a:rPr>
              <a:t>Použité zdroje</a:t>
            </a:r>
            <a:endParaRPr b="1" lang="en-US" sz="3200" spc="-1" strike="noStrike">
              <a:solidFill>
                <a:srgbClr val="0054a6"/>
              </a:solidFill>
              <a:latin typeface="Trebuchet MS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8360" y="155736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45456"/>
                </a:solidFill>
                <a:latin typeface="Trebuchet MS"/>
              </a:rPr>
              <a:t>Zdravotnická ročenka České republiky 2001, ÚZIS ČR, 2002, </a:t>
            </a:r>
            <a:br>
              <a:rPr sz="1800"/>
            </a:br>
            <a:r>
              <a:rPr b="0" lang="cs-CZ" sz="1800" spc="-1" strike="noStrike">
                <a:solidFill>
                  <a:srgbClr val="545456"/>
                </a:solidFill>
                <a:latin typeface="Trebuchet MS"/>
              </a:rPr>
              <a:t>ISBN 80-7280-159-7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45456"/>
                </a:solidFill>
                <a:latin typeface="Trebuchet MS"/>
              </a:rPr>
              <a:t>Zdravotnická ročenka České republiky 2011, ÚZIS ČR, 2012, </a:t>
            </a:r>
            <a:br>
              <a:rPr sz="1800"/>
            </a:br>
            <a:r>
              <a:rPr b="0" lang="cs-CZ" sz="1800" spc="-1" strike="noStrike">
                <a:solidFill>
                  <a:srgbClr val="545456"/>
                </a:solidFill>
                <a:latin typeface="Trebuchet MS"/>
              </a:rPr>
              <a:t>ISBN 978-80-7472-024-6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45456"/>
                </a:solidFill>
                <a:latin typeface="Trebuchet MS"/>
              </a:rPr>
              <a:t>Zákon o podmínkách získávání a uznávání odborné způsobilosti a specializované způsobilosti k výkonu zdravotnického povolání lékaře, zubního lékaře a farmaceuta (95/2004 Sb.)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45456"/>
                </a:solidFill>
                <a:latin typeface="Trebuchet MS"/>
              </a:rPr>
              <a:t>Vyhláška o oborech specializačního vzdělávání lékařů, zubních lékařů a farmaceutů a oborech certifikovaných kurzů (185/2009 Sb.)</a:t>
            </a: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buClr>
                <a:srgbClr val="0054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9:05:42Z</dcterms:created>
  <dc:creator>x</dc:creator>
  <dc:description/>
  <dc:language>en-US</dc:language>
  <cp:lastModifiedBy>Jája a Pája</cp:lastModifiedBy>
  <cp:lastPrinted>2012-11-26T10:33:23Z</cp:lastPrinted>
  <dcterms:modified xsi:type="dcterms:W3CDTF">2012-11-26T11:32:44Z</dcterms:modified>
  <cp:revision>60</cp:revision>
  <dc:subject/>
  <dc:title>Setkání vedoucích pracovníků</dc:title>
</cp:coreProperties>
</file>