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1011-869A-43CE-9D2D-6F2BB69A2E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C55F-C87A-4EC4-A520-C4C7828E0C83}" type="slidenum">
              <a:rPr b="0" lang="cs-CZ" sz="1200" spc="-1" strike="noStrike">
                <a:solidFill>
                  <a:srgbClr val="003d6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ak vidno léky opravdu nepředstavují z hlediska zvyšování nákladů problé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6200" y="8685360"/>
            <a:ext cx="297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C7E49-A01B-401D-A87D-096BB3FA0D1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E0AD-E3E6-41F2-860B-E1B5583277F2}" type="slidenum">
              <a:rPr b="0" lang="cs-CZ" sz="1200" spc="-1" strike="noStrike">
                <a:solidFill>
                  <a:srgbClr val="003d6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ákladovost ZP na jednoho pojištěnce – očištěno od vlivu věk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1022-06CE-460A-ABA4-69E5DAEC7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0A9-8051-47AB-891E-62E153AE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A2CF-9035-4CBF-93A8-35F5F6B4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7F9-93D1-46F6-92AA-83D2C9E8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DC73F-49A6-4A5F-80BB-FABF85133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4777-2315-4B80-A055-DC9C05D9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367B-39CA-49A7-A463-46C26299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7C40-2C1C-4558-A40C-D953AE28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CCC4-CACF-4F70-B255-C6B9EA16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F729-7CFC-468F-B065-DDA973CE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BAC5-736F-4F4A-810D-9A5953F4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06C-83EC-423C-93E6-0D188E9A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EC8D-E02C-41B2-BD80-79C5A14F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1CDB-C951-4FE6-A282-2012B3D7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6ED1-C4E1-4885-B881-29276E0A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BBCE-0597-4CDD-9514-046AF082E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B997-CD01-4D57-B127-49ED24C53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A6D-95A9-47EC-B7E2-928228DD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328-5486-443A-98D7-DD1F10E3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B780-B71E-4987-AA76-076AFE9A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1A1-C2F1-4B38-8655-BECF3BC5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FCCD-2FEA-41FD-B84B-F3B58249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B390-1E0F-47EA-B43F-428F5ACD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9521-A392-4C91-A6E2-24257890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50920" indent="-22860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1EE7-E927-407C-B2FF-E4171F22C0EB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0" name="Picture 12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48" name="Picture 8" descr="pp_titul_podtisk"/>
          <p:cNvPicPr/>
          <p:nvPr/>
        </p:nvPicPr>
        <p:blipFill>
          <a:blip r:embed="rId2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logo_mzcr_color_eng"/>
          <p:cNvPicPr/>
          <p:nvPr/>
        </p:nvPicPr>
        <p:blipFill>
          <a:blip r:embed="rId3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50920" indent="-22860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F2B4-CF0F-408F-882E-3701DA90A5F3}" type="slidenum">
              <a:rPr b="0" lang="en-US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33360" y="2463840"/>
            <a:ext cx="77313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GillSans"/>
              </a:rPr>
              <a:t>Úhradová vyhláška v r. 2013</a:t>
            </a:r>
            <a:br>
              <a:rPr sz="3600"/>
            </a:br>
            <a:br>
              <a:rPr sz="800"/>
            </a:br>
            <a:r>
              <a:rPr b="1" lang="cs-CZ" sz="3600" spc="-1" strike="noStrike">
                <a:solidFill>
                  <a:srgbClr val="ffffff"/>
                </a:solidFill>
                <a:latin typeface="GillSans"/>
              </a:rPr>
              <a:t>Centrová léčba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cs-CZ" sz="2400" spc="-1" strike="noStrike">
                <a:solidFill>
                  <a:srgbClr val="ffffff"/>
                </a:solidFill>
                <a:latin typeface="GillSans"/>
              </a:rPr>
              <a:t>ing. Petr Nosek, MZČR</a:t>
            </a:r>
            <a:br>
              <a:rPr sz="800"/>
            </a:br>
            <a:br>
              <a:rPr sz="2400"/>
            </a:br>
            <a:r>
              <a:rPr b="0" lang="cs-CZ" sz="2400" spc="-1" strike="noStrike">
                <a:solidFill>
                  <a:srgbClr val="ffffff"/>
                </a:solidFill>
                <a:latin typeface="GillSans"/>
              </a:rPr>
              <a:t>„Efektivní nemocnice 2012“, 27 - 28.11.2012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ze MZ pro budoucnost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42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Arial"/>
              </a:rPr>
              <a:t>Ministerstvo zdravotnictví bude prosazovat změny, které povedou k aktivní roli zdravotních pojišťoven: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Úhradový mechanismus dává cenové signály poskytovatelům – systematicky na všech úrovních – pro poskytování potřebné a péče </a:t>
            </a:r>
            <a:r>
              <a:rPr b="1" lang="cs-CZ" sz="2400" spc="-1" strike="noStrike">
                <a:solidFill>
                  <a:srgbClr val="003d61"/>
                </a:solidFill>
                <a:latin typeface="Arial"/>
              </a:rPr>
              <a:t>efektivně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Úhradový mechanismus zvýhodňuje efektivní poskytovatele a vytváří </a:t>
            </a:r>
            <a:r>
              <a:rPr b="1" lang="cs-CZ" sz="2400" spc="-1" strike="noStrike">
                <a:solidFill>
                  <a:srgbClr val="003d61"/>
                </a:solidFill>
                <a:latin typeface="Arial"/>
              </a:rPr>
              <a:t>transparentní</a:t>
            </a: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 prostředí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Smlouvy pouze takového </a:t>
            </a:r>
            <a:r>
              <a:rPr b="1" lang="cs-CZ" sz="2400" spc="-1" strike="noStrike">
                <a:solidFill>
                  <a:srgbClr val="003d61"/>
                </a:solidFill>
                <a:latin typeface="Arial"/>
              </a:rPr>
              <a:t>rozsahu péče, který potřebují pojištěnci</a:t>
            </a: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 na základě jejich potřeb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lnSpc>
                <a:spcPct val="100000"/>
              </a:lnSpc>
              <a:spcBef>
                <a:spcPts val="1049"/>
              </a:spcBef>
              <a:spcAft>
                <a:spcPts val="1049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Arial"/>
              </a:rPr>
              <a:t>Hodnocení kvality a výsledků</a:t>
            </a: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 péče (komplikace, rehospitalizace, pády, celkové náklady)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7848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ktivní role pojišťoven – vize do budoucnosti, 2013+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33360" y="126828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Arial"/>
              </a:rPr>
              <a:t>Posun zdravotních pojišťoven do více aktivní role v nakupování péče – balíčky, DRG, kvalit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42920" y="2205000"/>
            <a:ext cx="21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61"/>
                </a:solidFill>
                <a:latin typeface="Arial"/>
              </a:rPr>
              <a:t>„</a:t>
            </a:r>
            <a:r>
              <a:rPr b="0" lang="en-US" sz="3000" spc="-1" strike="noStrike">
                <a:solidFill>
                  <a:srgbClr val="003d61"/>
                </a:solidFill>
                <a:latin typeface="Arial"/>
              </a:rPr>
              <a:t>Pasivní“</a:t>
            </a:r>
            <a:endParaRPr b="0" lang="en-US" sz="30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684360" y="2708280"/>
            <a:ext cx="396072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Regulace počtu lůžek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Žádná strategie výběru smluvních partnerů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Paušály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6300720" y="4437000"/>
            <a:ext cx="216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d61"/>
                </a:solidFill>
                <a:latin typeface="Arial"/>
              </a:rPr>
              <a:t>„</a:t>
            </a:r>
            <a:r>
              <a:rPr b="0" lang="en-US" sz="3000" spc="-1" strike="noStrike">
                <a:solidFill>
                  <a:srgbClr val="003d61"/>
                </a:solidFill>
                <a:latin typeface="Arial"/>
              </a:rPr>
              <a:t>Aktivní“</a:t>
            </a:r>
            <a:endParaRPr b="0" lang="en-US" sz="30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075280" y="5013360"/>
            <a:ext cx="396072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Selektivní nakupování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Výběr smluvních partnerů dle kvality a výsledků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DRG, platba za výsledek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1258920" y="4149720"/>
            <a:ext cx="6985080" cy="358920"/>
          </a:xfrm>
          <a:prstGeom prst="rightArrow">
            <a:avLst>
              <a:gd name="adj1" fmla="val 50000"/>
              <a:gd name="adj2" fmla="val 486535"/>
            </a:avLst>
          </a:prstGeom>
          <a:solidFill>
            <a:srgbClr val="fdbb30"/>
          </a:solidFill>
          <a:ln w="9360">
            <a:solidFill>
              <a:srgbClr val="003d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5651640" y="2349360"/>
            <a:ext cx="2520720" cy="122400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dbb30"/>
          </a:solidFill>
          <a:ln w="9360">
            <a:solidFill>
              <a:srgbClr val="003d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2987640" y="2349360"/>
            <a:ext cx="2521080" cy="1224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3d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 učení celého systému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33000" y="1600200"/>
            <a:ext cx="332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116000" y="134136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d61"/>
                </a:solidFill>
                <a:latin typeface="GillSans"/>
              </a:rPr>
              <a:t>Vývoj úhradových mechanismů probíhá i v ostatních státech následujícím způsobem</a:t>
            </a:r>
            <a:endParaRPr b="0" lang="en-US" sz="28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539640" y="3716280"/>
            <a:ext cx="2737080" cy="23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Platba ve výši nákladů, replikace historického rozpočtu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Udržování struktury personálu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Fixace lůžek a poskytovatelů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3274920" y="3716280"/>
            <a:ext cx="259236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Platba za výkony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Platba za ošetřovací den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DRG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156360" y="3645000"/>
            <a:ext cx="273672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Platba za výsledky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Zohlednění výstupů a kvality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 „</a:t>
            </a: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Nákup péče“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3492360" y="2421000"/>
            <a:ext cx="223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61"/>
                </a:solidFill>
                <a:latin typeface="Arial"/>
              </a:rPr>
              <a:t>Úhrada</a:t>
            </a:r>
            <a:r>
              <a:rPr b="0" lang="en-US" sz="3400" spc="-1" strike="noStrike">
                <a:solidFill>
                  <a:srgbClr val="003d61"/>
                </a:solidFill>
                <a:latin typeface="Garamond"/>
              </a:rPr>
              <a:t> </a:t>
            </a:r>
            <a:r>
              <a:rPr b="0" lang="en-US" sz="2600" spc="-1" strike="noStrike">
                <a:solidFill>
                  <a:srgbClr val="003d61"/>
                </a:solidFill>
                <a:latin typeface="Arial"/>
              </a:rPr>
              <a:t>za výstup</a:t>
            </a:r>
            <a:endParaRPr b="0" lang="en-US" sz="26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156360" y="2492280"/>
            <a:ext cx="223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61"/>
                </a:solidFill>
                <a:latin typeface="Arial"/>
              </a:rPr>
              <a:t>Úhrada za výsledek</a:t>
            </a:r>
            <a:endParaRPr b="0" lang="en-US" sz="26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395280" y="2349360"/>
            <a:ext cx="2521080" cy="122400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3d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900000" y="2492280"/>
            <a:ext cx="2232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d61"/>
                </a:solidFill>
                <a:latin typeface="Arial"/>
              </a:rPr>
              <a:t>Úhrada za vstupy</a:t>
            </a:r>
            <a:endParaRPr b="0" lang="en-US" sz="26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37" name="Oval 16"/>
          <p:cNvSpPr/>
          <p:nvPr/>
        </p:nvSpPr>
        <p:spPr>
          <a:xfrm>
            <a:off x="2916360" y="1916280"/>
            <a:ext cx="2519280" cy="34574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Sans"/>
              </a:rPr>
              <a:t>Kolik stojí pacienti se vzácnými nemocemi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137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Příklady: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Fabryho choroba – průměrná úhrada cca 4 mil. Kč ročně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Gaucherova choroba  - průměrná úhrada cca 4,4 mil. Kč ročně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 „</a:t>
            </a: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Jiné vzácné metabolické vady“ - průměrná úhrada cca 3,5 mil. Kč ročně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Plicní arteriální hypertenze - průměrná úhrada cca 0,8 mil. Kč ročně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Chronická obstrukční plicní nemoc - průměrná úhrada cca 2,1 mil. Kč ročně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atd</a:t>
            </a: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Zdroj: VZP 2010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9280" y="1268280"/>
            <a:ext cx="8425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Prioritou je zejména léčba v: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lnSpc>
                <a:spcPct val="100000"/>
              </a:lnSpc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Arial"/>
              </a:rPr>
              <a:t>DRG beta </a:t>
            </a: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(nárůst hrazeného objemu na 115%) 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 algn="just">
              <a:lnSpc>
                <a:spcPct val="100000"/>
              </a:lnSpc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Arial"/>
              </a:rPr>
              <a:t>Centrové péči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50920" indent="-228600" algn="just">
              <a:lnSpc>
                <a:spcPct val="100000"/>
              </a:lnSpc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V diagnostických skupinách Revmatologie, Roztroušená skleróza a Plicní hypertenze dojde </a:t>
            </a:r>
            <a:r>
              <a:rPr b="1" lang="cs-CZ" sz="2400" spc="-1" strike="noStrike">
                <a:solidFill>
                  <a:srgbClr val="003d61"/>
                </a:solidFill>
                <a:latin typeface="Arial"/>
              </a:rPr>
              <a:t>k navýšení na 108% </a:t>
            </a: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počtu unikátních pojištěnců </a:t>
            </a:r>
            <a:r>
              <a:rPr b="1" lang="cs-CZ" sz="2400" spc="-1" strike="noStrike">
                <a:solidFill>
                  <a:srgbClr val="003d61"/>
                </a:solidFill>
                <a:latin typeface="Arial"/>
              </a:rPr>
              <a:t>léčených k 31.12.2012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50920" indent="-228600" algn="just">
              <a:lnSpc>
                <a:spcPct val="100000"/>
              </a:lnSpc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V ostatních diagnostických skupinách dojde </a:t>
            </a:r>
            <a:r>
              <a:rPr b="1" lang="cs-CZ" sz="2400" spc="-1" strike="noStrike">
                <a:solidFill>
                  <a:srgbClr val="003d61"/>
                </a:solidFill>
                <a:latin typeface="Arial"/>
              </a:rPr>
              <a:t>k navýšení na 102% </a:t>
            </a:r>
            <a:r>
              <a:rPr b="0" lang="cs-CZ" sz="2400" spc="-1" strike="noStrike">
                <a:solidFill>
                  <a:srgbClr val="003d61"/>
                </a:solidFill>
                <a:latin typeface="Arial"/>
              </a:rPr>
              <a:t>počtu unikátních pojištěnců </a:t>
            </a:r>
            <a:r>
              <a:rPr b="1" lang="cs-CZ" sz="2400" spc="-1" strike="noStrike">
                <a:solidFill>
                  <a:srgbClr val="003d61"/>
                </a:solidFill>
                <a:latin typeface="Arial"/>
              </a:rPr>
              <a:t>léčených během celého roku 2012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Sans"/>
              </a:rPr>
              <a:t>Úhradová vyhláška 2013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9280" y="1341360"/>
            <a:ext cx="8280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Centrová péče</a:t>
            </a: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: v diagnostických skupinách metabolických chorob, kde je dlouhodobě stabilní úhrada i počet nemocných, zůstává limit 100% počtu unikátních pojištěnců léčených k 31.12.2012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Fabryho chorob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Gaucherova chorob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Niemen-Pickova chorob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Mukopolisacharidóza 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Mukopolisacharidóza I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Mukopolisacharidóza V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Pompeho chorob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Hyperamonie u dětí s dědičnou poruchou metabolismu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Dědičná tyrozinemie typu 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illSans"/>
              </a:rPr>
              <a:t>Úhradová vyhláška 2013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doucnost úhrad léčby vzácných chorob - východiska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0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Východiska pro uvažování nad budoucností úhrad za léčbu vzácných onemocnění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Technologický pokrok v medicíně akceleruj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Populace stárne a tudíž stoupají náklady i bez příchodu nových technologi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d61"/>
                </a:solidFill>
                <a:latin typeface="Arial"/>
              </a:rPr>
              <a:t>V dohledné době se nedá očekávat zásadní nárůst prostředků v systému veřejného zdravotního pojiště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476360" y="5373720"/>
            <a:ext cx="863640" cy="216000"/>
          </a:xfrm>
          <a:prstGeom prst="rightArrow">
            <a:avLst>
              <a:gd name="adj1" fmla="val 50000"/>
              <a:gd name="adj2" fmla="val 99958"/>
            </a:avLst>
          </a:prstGeom>
          <a:solidFill>
            <a:srgbClr val="fdbb30"/>
          </a:solidFill>
          <a:ln w="9360">
            <a:solidFill>
              <a:srgbClr val="003d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556000" y="5300640"/>
            <a:ext cx="60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Řešení – Health Technology Assesment (HTA)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4883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Sans"/>
              </a:rPr>
              <a:t>HTA  </a:t>
            </a:r>
            <a:endParaRPr b="1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HTA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: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ultidisciplinární proces, který shromažďuje a hodnotí informace o medicínských, sociálních, ekonomických a etických dopadech používání zdravotnických technologií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7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7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HTA sestává z fáze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Hodnocení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assessment) - zhodnocení posuzované technologie na základě existujících důkazů („věda“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osouzení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appraisal) - rozhoduje o zařazení do úhrady v.z.p. s ohledem na výstupy hodnocení („politika“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ozhodnutí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decision): implementace výsledku posouzení („realizace“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7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72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ákladní východiska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905040" indent="-372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amostatnost a nezávislost fází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905040" indent="-372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ddělení orgánu, který hodnotí od toho, který posuzuje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905040" indent="-372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akotvení HTA jako povinného předstupně vybraných technologií do v.z.p. a jako nástroje revize již hrazených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905040" indent="-372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aměření na rešerše hodnocení vybraných zahraničních agentur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905040" indent="-372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naha o minimální nároky na státní rozpočet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4883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Sans"/>
              </a:rPr>
              <a:t>Stav zavádění HTA v ČR</a:t>
            </a:r>
            <a:endParaRPr b="1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00320" indent="-40032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Článek č. 15 směrnice 24/2011/EU Evropského parlamentu a Rady (o uplatňování práv pacientů v přeshraniční zdravotní péči) o spolupráci členských států v oblasti HTA a vytvoření evropské sítě (25.10.2013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00320" indent="-40032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eformální skupina na MZ připravila návrh základního rámce (metodika a manuály, pilotní provoz, implementace do legislativy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00320" indent="-40032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říkazem ministra č. 6/ 2012 „HTA v rámci systému v.z.p.“ je zřízena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927000" indent="-40032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ada HTA (pracovníci MZ)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294920" indent="-40032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radní orgán ministr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294920" indent="-40032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říprava  veřejné zakázky a řízení práce realizátora zakázky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294920" indent="-40032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ávrh legislativního zakotvení HTA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927000" indent="-40032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Komise pro zdravotnické technologie (MZ, ZP, OS, veřejnost)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00320" indent="-40032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Červenec 2012 – AHCM s.r.o. vyhrává VŘ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927000" indent="-40032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áří – dodání metodiky a manuál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927000" indent="-40032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rosinec  – pilotní ověření postupů ve všech oblastech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00320" indent="-40032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2013 zapracování HTA do legislativ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00320" indent="-40032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2014 HTA jako brána vstupu nové a nákladné technologie do v.z.p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927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416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Sans"/>
              </a:rPr>
              <a:t>Proces HTA</a:t>
            </a:r>
            <a:endParaRPr b="1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3" name="Zástupný symbol pro obsah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54" name="Obdélník 3"/>
          <p:cNvSpPr/>
          <p:nvPr/>
        </p:nvSpPr>
        <p:spPr>
          <a:xfrm>
            <a:off x="468360" y="2492280"/>
            <a:ext cx="2232000" cy="457200"/>
          </a:xfrm>
          <a:prstGeom prst="rect">
            <a:avLst/>
          </a:prstGeom>
          <a:solidFill>
            <a:srgbClr val="fdbb30"/>
          </a:solidFill>
          <a:ln w="25560">
            <a:solidFill>
              <a:srgbClr val="ba89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Žádost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55" name="Obdélník 4"/>
          <p:cNvSpPr/>
          <p:nvPr/>
        </p:nvSpPr>
        <p:spPr>
          <a:xfrm>
            <a:off x="4572000" y="1557360"/>
            <a:ext cx="2232000" cy="792000"/>
          </a:xfrm>
          <a:prstGeom prst="rect">
            <a:avLst/>
          </a:prstGeom>
          <a:solidFill>
            <a:srgbClr val="fdbb30"/>
          </a:solidFill>
          <a:ln w="25560">
            <a:solidFill>
              <a:srgbClr val="ba89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Úřa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56" name="Šipka doprava 11"/>
          <p:cNvSpPr/>
          <p:nvPr/>
        </p:nvSpPr>
        <p:spPr>
          <a:xfrm rot="20449800">
            <a:off x="3072960" y="2211120"/>
            <a:ext cx="1146240" cy="22392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dbb30"/>
          </a:solidFill>
          <a:ln w="25560">
            <a:solidFill>
              <a:srgbClr val="ba89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cxnSp>
        <p:nvCxnSpPr>
          <p:cNvPr id="157" name="Pravoúhlá spojovací čára 13"/>
          <p:cNvCxnSpPr/>
          <p:nvPr/>
        </p:nvCxnSpPr>
        <p:spPr>
          <a:xfrm>
            <a:off x="5364000" y="2781360"/>
            <a:ext cx="915120" cy="915120"/>
          </a:xfrm>
          <a:prstGeom prst="bentConnector3">
            <a:avLst>
              <a:gd name="adj1" fmla="val 49980"/>
            </a:avLst>
          </a:prstGeom>
          <a:ln w="9360">
            <a:solidFill>
              <a:srgbClr val="fcb92a"/>
            </a:solidFill>
            <a:miter/>
            <a:tailEnd len="med" type="arrow" w="med"/>
          </a:ln>
        </p:spPr>
      </p:cxnSp>
      <p:cxnSp>
        <p:nvCxnSpPr>
          <p:cNvPr id="158" name="Přímá spojovací šipka 18"/>
          <p:cNvCxnSpPr/>
          <p:nvPr/>
        </p:nvCxnSpPr>
        <p:spPr>
          <a:xfrm>
            <a:off x="5796000" y="3716280"/>
            <a:ext cx="699120" cy="627840"/>
          </a:xfrm>
          <a:prstGeom prst="straightConnector1">
            <a:avLst/>
          </a:prstGeom>
          <a:ln w="9360">
            <a:solidFill>
              <a:srgbClr val="fcb92a"/>
            </a:solidFill>
            <a:miter/>
            <a:tailEnd len="med" type="arrow" w="med"/>
          </a:ln>
        </p:spPr>
      </p:cxnSp>
      <p:cxnSp>
        <p:nvCxnSpPr>
          <p:cNvPr id="159" name="Přímá spojovací šipka 22"/>
          <p:cNvCxnSpPr/>
          <p:nvPr/>
        </p:nvCxnSpPr>
        <p:spPr>
          <a:xfrm>
            <a:off x="5795640" y="2781000"/>
            <a:ext cx="540360" cy="3960"/>
          </a:xfrm>
          <a:prstGeom prst="straightConnector1">
            <a:avLst/>
          </a:prstGeom>
          <a:ln w="9360">
            <a:solidFill>
              <a:srgbClr val="fcb92a"/>
            </a:solidFill>
            <a:miter/>
            <a:tailEnd len="med" type="arrow" w="med"/>
          </a:ln>
        </p:spPr>
      </p:cxnSp>
      <p:sp>
        <p:nvSpPr>
          <p:cNvPr id="160" name="Šipka doprava 30"/>
          <p:cNvSpPr/>
          <p:nvPr/>
        </p:nvSpPr>
        <p:spPr>
          <a:xfrm rot="6532200">
            <a:off x="4303800" y="4026600"/>
            <a:ext cx="146376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fdbb30"/>
          </a:solidFill>
          <a:ln w="25560">
            <a:solidFill>
              <a:srgbClr val="ba89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61" name="Zkosené hrany 31"/>
          <p:cNvSpPr/>
          <p:nvPr/>
        </p:nvSpPr>
        <p:spPr>
          <a:xfrm>
            <a:off x="826920" y="3860640"/>
            <a:ext cx="2376720" cy="1043280"/>
          </a:xfrm>
          <a:prstGeom prst="bevel">
            <a:avLst>
              <a:gd name="adj" fmla="val 12500"/>
            </a:avLst>
          </a:prstGeom>
          <a:solidFill>
            <a:srgbClr val="fdbb30"/>
          </a:solidFill>
          <a:ln w="25560">
            <a:solidFill>
              <a:srgbClr val="ba89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ace posouzení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62" name="Šipka doprava 32"/>
          <p:cNvSpPr/>
          <p:nvPr/>
        </p:nvSpPr>
        <p:spPr>
          <a:xfrm rot="13726800">
            <a:off x="1922760" y="5128200"/>
            <a:ext cx="977760" cy="105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dbb30"/>
          </a:solidFill>
          <a:ln w="25560">
            <a:solidFill>
              <a:srgbClr val="ba89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63" name="Elipsa 10"/>
          <p:cNvSpPr/>
          <p:nvPr/>
        </p:nvSpPr>
        <p:spPr>
          <a:xfrm>
            <a:off x="6300720" y="4292640"/>
            <a:ext cx="2592360" cy="842760"/>
          </a:xfrm>
          <a:prstGeom prst="ellipse">
            <a:avLst/>
          </a:prstGeom>
          <a:solidFill>
            <a:srgbClr val="fdbb30"/>
          </a:solidFill>
          <a:ln w="25560">
            <a:solidFill>
              <a:srgbClr val="ba89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závěrečná zpráv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 doporučením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64" name="Elipsa 8"/>
          <p:cNvSpPr/>
          <p:nvPr/>
        </p:nvSpPr>
        <p:spPr>
          <a:xfrm>
            <a:off x="6284880" y="3429000"/>
            <a:ext cx="2608200" cy="770040"/>
          </a:xfrm>
          <a:prstGeom prst="ellipse">
            <a:avLst/>
          </a:prstGeom>
          <a:solidFill>
            <a:srgbClr val="fdbb30"/>
          </a:solidFill>
          <a:ln w="25560">
            <a:solidFill>
              <a:srgbClr val="ba89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ffffff"/>
                </a:solidFill>
                <a:latin typeface="Calibri"/>
              </a:rPr>
              <a:t>doplnění, hearing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65" name="Elipsa 9"/>
          <p:cNvSpPr/>
          <p:nvPr/>
        </p:nvSpPr>
        <p:spPr>
          <a:xfrm>
            <a:off x="6335640" y="2492280"/>
            <a:ext cx="2629080" cy="771480"/>
          </a:xfrm>
          <a:prstGeom prst="ellipse">
            <a:avLst/>
          </a:prstGeom>
          <a:solidFill>
            <a:srgbClr val="fdbb30"/>
          </a:solidFill>
          <a:ln w="25560">
            <a:solidFill>
              <a:srgbClr val="ba89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Sans"/>
              </a:rPr>
              <a:t>dva expertní posudky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66" name="Obdélník 7"/>
          <p:cNvSpPr/>
          <p:nvPr/>
        </p:nvSpPr>
        <p:spPr>
          <a:xfrm>
            <a:off x="3564000" y="5229360"/>
            <a:ext cx="2520720" cy="1203120"/>
          </a:xfrm>
          <a:prstGeom prst="rect">
            <a:avLst/>
          </a:prstGeom>
          <a:solidFill>
            <a:srgbClr val="fdbb30"/>
          </a:solidFill>
          <a:ln w="25560">
            <a:solidFill>
              <a:srgbClr val="ba89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omise pro zdravotnické technologi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ři MZ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67" name="Oval 30"/>
          <p:cNvSpPr/>
          <p:nvPr/>
        </p:nvSpPr>
        <p:spPr>
          <a:xfrm>
            <a:off x="6588000" y="1989000"/>
            <a:ext cx="1943280" cy="3527640"/>
          </a:xfrm>
          <a:prstGeom prst="ellipse">
            <a:avLst/>
          </a:prstGeom>
          <a:noFill/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804000" y="1413000"/>
            <a:ext cx="187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fáze hodnocení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69" name="Oval 32"/>
          <p:cNvSpPr/>
          <p:nvPr/>
        </p:nvSpPr>
        <p:spPr>
          <a:xfrm>
            <a:off x="2987640" y="5229360"/>
            <a:ext cx="3672000" cy="1268280"/>
          </a:xfrm>
          <a:prstGeom prst="ellipse">
            <a:avLst/>
          </a:prstGeom>
          <a:noFill/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6300720" y="6424560"/>
            <a:ext cx="187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fáze posouzení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71" name="Oval 34"/>
          <p:cNvSpPr/>
          <p:nvPr/>
        </p:nvSpPr>
        <p:spPr>
          <a:xfrm>
            <a:off x="250920" y="3716280"/>
            <a:ext cx="3598920" cy="1270080"/>
          </a:xfrm>
          <a:prstGeom prst="ellipse">
            <a:avLst/>
          </a:prstGeom>
          <a:noFill/>
          <a:ln w="381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68360" y="4941720"/>
            <a:ext cx="187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fáze rozhodnutí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4883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k 2013 – úhradová vyhláška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137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1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Arial"/>
              </a:rPr>
              <a:t>Primární východiska</a:t>
            </a: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171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171000" indent="-17100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Stabilita systému – stejná struktura jako v předchozím ro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171000" indent="-17100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Akceptace dohod – praktičtí lékaři pro dospělé a pro děti a doros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171000" indent="-17100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Restriktivní nastavení – všechny segmenty s výjimkou segmentů dotýkajících se nejvíce nemocných (DRG beta, centrové péče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171000" indent="-17100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Zvýšení „spravedlnosti“ v úhradách za akutní lůžkovou péč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27920" indent="-19584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DRG – zvyšování jeho významu – technická základní sazba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27920" indent="-195840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Sbližování úhrad mezi nemocnicemi i mezi zdravotními pojišťovnami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3360" y="2463480"/>
            <a:ext cx="679464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illSans"/>
              </a:rPr>
              <a:t>Děkuji za pozornost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48836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umulativní růst nákladů na jednotlivé segmenty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graphicFrame>
        <p:nvGraphicFramePr>
          <p:cNvPr id="102" name="Object 7"/>
          <p:cNvGraphicFramePr/>
          <p:nvPr/>
        </p:nvGraphicFramePr>
        <p:xfrm>
          <a:off x="0" y="1125360"/>
          <a:ext cx="9144000" cy="560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25360"/>
                    <a:ext cx="9144000" cy="56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342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ok 2013 – úhradová vyhláška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68360" y="1341360"/>
            <a:ext cx="8567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eterminanty úhradové vyhlášky: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lvl="1" marL="92376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ůst předchozích let byl umožněn díky naakumulovaným rezervám z minulých let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lvl="1" marL="92376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ezervy již byly vyčerpány, došlo i k mimořádnému přerozdělení prostředků na účtech zdravotních pojišťoven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lvl="1" marL="92376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Ekonomická situace nedovoluje, aby úhradová vyhláška pro rok 2013 umožnila další nárůst úhrad poskytovatelům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224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d61"/>
              </a:solidFill>
              <a:latin typeface="Garamond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Principy úhradové vyhlášky 2013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lvl="1" marL="92376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znik na základě modelací nad daty NRC (data však nedokonalá)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lvl="1" marL="92376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bjem úhrad musí být roven vybraným prostředkům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lvl="1" marL="92376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astropování růstu na úrovni pozitivní nuly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lvl="1" marL="92376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estrikce se nedotkne centrové péče, DRG beta a domácí péče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lvl="1" marL="923760" indent="-38088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bližování základních sazeb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– odstranění historických nerovností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Sans"/>
              </a:rPr>
              <a:t>Výchozí situac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- nemocnice</a:t>
            </a:r>
            <a:endParaRPr b="1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507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225"/>
              </a:spcBef>
              <a:spcAft>
                <a:spcPts val="1225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800" spc="-1" strike="noStrike">
                <a:solidFill>
                  <a:srgbClr val="003d61"/>
                </a:solidFill>
                <a:latin typeface="GillSans"/>
              </a:rPr>
              <a:t>Nemocnice byly placeny rozpočtem, </a:t>
            </a:r>
            <a:r>
              <a:rPr b="0" lang="cs-CZ" sz="2800" spc="-1" strike="noStrike">
                <a:solidFill>
                  <a:srgbClr val="003d61"/>
                </a:solidFill>
                <a:latin typeface="Arial"/>
              </a:rPr>
              <a:t>organizaci a </a:t>
            </a:r>
            <a:r>
              <a:rPr b="0" lang="cs-CZ" sz="2800" spc="-1" strike="noStrike">
                <a:solidFill>
                  <a:srgbClr val="003d61"/>
                </a:solidFill>
                <a:latin typeface="GillSans"/>
              </a:rPr>
              <a:t>data mají </a:t>
            </a:r>
            <a:r>
              <a:rPr b="0" lang="cs-CZ" sz="2800" spc="-1" strike="noStrike">
                <a:solidFill>
                  <a:srgbClr val="003d61"/>
                </a:solidFill>
                <a:latin typeface="Arial"/>
              </a:rPr>
              <a:t>dle </a:t>
            </a:r>
            <a:r>
              <a:rPr b="0" lang="cs-CZ" sz="2800" spc="-1" strike="noStrike">
                <a:solidFill>
                  <a:srgbClr val="003d61"/>
                </a:solidFill>
                <a:latin typeface="GillSans"/>
              </a:rPr>
              <a:t>jednotlivých nákladových středisek</a:t>
            </a: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1225"/>
              </a:spcBef>
              <a:spcAft>
                <a:spcPts val="1225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800" spc="-1" strike="noStrike">
                <a:solidFill>
                  <a:srgbClr val="003d61"/>
                </a:solidFill>
                <a:latin typeface="Arial"/>
              </a:rPr>
              <a:t>2008, 2009 a </a:t>
            </a:r>
            <a:r>
              <a:rPr b="0" lang="cs-CZ" sz="2800" spc="-1" strike="noStrike">
                <a:solidFill>
                  <a:srgbClr val="003d61"/>
                </a:solidFill>
                <a:latin typeface="GillSans"/>
              </a:rPr>
              <a:t>2010 – poprvé úhrada za DRG</a:t>
            </a: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1225"/>
              </a:spcBef>
              <a:spcAft>
                <a:spcPts val="1225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800" spc="-1" strike="noStrike">
                <a:solidFill>
                  <a:srgbClr val="003d61"/>
                </a:solidFill>
                <a:latin typeface="GillSans"/>
              </a:rPr>
              <a:t>2011 – paušál </a:t>
            </a: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1225"/>
              </a:spcBef>
              <a:spcAft>
                <a:spcPts val="1225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800" spc="-1" strike="noStrike">
                <a:solidFill>
                  <a:srgbClr val="003d61"/>
                </a:solidFill>
                <a:latin typeface="GillSans"/>
              </a:rPr>
              <a:t>2012 – opět DRG s přiblížením technické základní sazbě a amb. risk koridore</a:t>
            </a:r>
            <a:r>
              <a:rPr b="0" lang="cs-CZ" sz="2800" spc="-1" strike="noStrike">
                <a:solidFill>
                  <a:srgbClr val="003d61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100000"/>
              </a:lnSpc>
              <a:spcBef>
                <a:spcPts val="1225"/>
              </a:spcBef>
              <a:spcAft>
                <a:spcPts val="1225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d61"/>
                </a:solidFill>
                <a:latin typeface="GillSans"/>
              </a:rPr>
              <a:t>Rozptyl individuálních zákl. sazeb 17 – 39 tis. Kč</a:t>
            </a: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1723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Sans"/>
              </a:rPr>
              <a:t>DRG jako hlavní úhradový mechanismus i v roce 2013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197000"/>
            <a:ext cx="79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8560" indent="-268560">
              <a:spcBef>
                <a:spcPts val="1049"/>
              </a:spcBef>
              <a:spcAft>
                <a:spcPts val="1049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Možnost „balíčků“ ponechána + limitace cena/objem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marL="268560" indent="-268560">
              <a:spcBef>
                <a:spcPts val="1049"/>
              </a:spcBef>
              <a:spcAft>
                <a:spcPts val="1049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Objektivní nárůst úhrad centrové péče a odlišení center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marL="268560" indent="-268560">
              <a:spcBef>
                <a:spcPts val="1049"/>
              </a:spcBef>
              <a:spcAft>
                <a:spcPts val="1049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Sbližování IZS maximálně 50 : 50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marL="268560" indent="-268560">
              <a:spcBef>
                <a:spcPts val="1049"/>
              </a:spcBef>
              <a:spcAft>
                <a:spcPts val="1049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Zavedení dolního i horního riskkoridoru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marL="268560" indent="-268560">
              <a:spcBef>
                <a:spcPts val="1049"/>
              </a:spcBef>
              <a:spcAft>
                <a:spcPts val="1049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Kompenzace přechodu pojištěnců – regionální koeficient změny počtu pojištěnců 1.1.2011/1.1.2013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marL="268560" indent="-268560">
              <a:spcBef>
                <a:spcPts val="1049"/>
              </a:spcBef>
              <a:spcAft>
                <a:spcPts val="1049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Nižší regulace na DRGbeta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marL="268560" indent="-268560">
              <a:spcBef>
                <a:spcPts val="1049"/>
              </a:spcBef>
              <a:spcAft>
                <a:spcPts val="1049"/>
              </a:spcAft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Přibližování amb. risk koridoru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Sans"/>
              </a:rPr>
              <a:t>Rok 2013 – Úhradová vyhláška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1"/>
                </a:solidFill>
                <a:latin typeface="GillSans"/>
              </a:rPr>
              <a:t>Kontrola vykazování a možnost ztráty při nesprávném vykazování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1"/>
                </a:solidFill>
                <a:latin typeface="GillSans"/>
              </a:rPr>
              <a:t>Cílená šetření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00160"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1"/>
                </a:solidFill>
                <a:latin typeface="GillSans"/>
              </a:rPr>
              <a:t>Náhodná šetření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marL="271440" indent="-271440"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d61"/>
                </a:solidFill>
                <a:latin typeface="GillSans"/>
              </a:rPr>
              <a:t>Postih do výše násobku neoprávněně vykázané péče!!!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Sans"/>
              </a:rPr>
              <a:t>Rok 2013 – Úhradová vyhláška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000" y="1341000"/>
            <a:ext cx="82342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ákladní parametry úhrady ambulantní péč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1440" indent="-27144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eferenční období: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ok 2011, nikoliv příslušné pololet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1440" indent="-27144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Omezení finančního objemu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: 98% referenčního obdob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1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Korekce finančního objemu koeficientem přechodu pojištěnc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71440" indent="-27144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egment komplementu: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14480" indent="-27144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erspektivní navázání úhrady na kvalitu poskytovaných služeb (certifikáty ISO či NASKL)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14480" indent="-27144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nížení hodnot bodu v odbornostech </a:t>
            </a:r>
            <a:r>
              <a:rPr b="0" lang="pt-BR" sz="2000" spc="-1" strike="noStrike">
                <a:solidFill>
                  <a:srgbClr val="003d61"/>
                </a:solidFill>
                <a:latin typeface="GillSans"/>
              </a:rPr>
              <a:t>222, 801, 802, 804, 805, 807, 812 až 819, 822 a 823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14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Sans"/>
              </a:rPr>
              <a:t>Výhled pro systém</a:t>
            </a:r>
            <a:endParaRPr b="1" lang="en-US" sz="32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3534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700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d61"/>
                </a:solidFill>
                <a:latin typeface="GillSans"/>
              </a:rPr>
              <a:t>Dlouhodobě finančně udržitelný a vyvážený systém, zajišťující každému spravedlivě ochranu zdraví a přístup k péči. </a:t>
            </a: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  <a:p>
            <a:pPr marL="358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1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3d61"/>
                </a:solidFill>
                <a:latin typeface="GillSans"/>
              </a:rPr>
              <a:t>ozvoj DRG</a:t>
            </a:r>
            <a:r>
              <a:rPr b="0" lang="en-US" sz="2400" spc="-1" strike="noStrike">
                <a:solidFill>
                  <a:srgbClr val="003d61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003d61"/>
                </a:solidFill>
                <a:latin typeface="GillSans"/>
              </a:rPr>
              <a:t>DRG do zákona</a:t>
            </a:r>
            <a:r>
              <a:rPr b="0" lang="en-US" sz="2400" spc="-1" strike="noStrike">
                <a:solidFill>
                  <a:srgbClr val="003d61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3d61"/>
                </a:solidFill>
                <a:latin typeface="GillSans"/>
              </a:rPr>
              <a:t>Kultivace vstupních dat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1"/>
                </a:solidFill>
                <a:latin typeface="Arial"/>
              </a:rPr>
              <a:t>Změna působení pojišťoven a jejich motivace – </a:t>
            </a:r>
            <a:r>
              <a:rPr b="0" lang="en-US" sz="2400" spc="-1" strike="noStrike">
                <a:solidFill>
                  <a:srgbClr val="003d61"/>
                </a:solidFill>
                <a:latin typeface="GillSans"/>
              </a:rPr>
              <a:t>Kancelář zdravotního pojištění</a:t>
            </a:r>
            <a:r>
              <a:rPr b="0" lang="en-US" sz="2400" spc="-1" strike="noStrike">
                <a:solidFill>
                  <a:srgbClr val="003d61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1"/>
                </a:solidFill>
                <a:latin typeface="Arial"/>
              </a:rPr>
              <a:t>Přerozdělení PCG,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1"/>
                </a:solidFill>
                <a:latin typeface="Arial"/>
              </a:rPr>
              <a:t>Zveřejňování smluv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04960" indent="-262080">
              <a:lnSpc>
                <a:spcPct val="100000"/>
              </a:lnSpc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d61"/>
                </a:solidFill>
                <a:latin typeface="Arial"/>
              </a:rPr>
              <a:t>HTA – vstup nových technologií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marL="35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9:15:00Z</dcterms:created>
  <dc:creator>roubal</dc:creator>
  <dc:description/>
  <dc:language>en-US</dc:language>
  <cp:lastModifiedBy>nosekp</cp:lastModifiedBy>
  <dcterms:modified xsi:type="dcterms:W3CDTF">2012-11-27T08:21:46Z</dcterms:modified>
  <cp:revision>19</cp:revision>
  <dc:subject/>
  <dc:title>Kontrola vykazování zdravotní péče</dc:title>
</cp:coreProperties>
</file>