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ABE-871C-4400-91AB-503E81A3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E132-1E4C-452B-85D3-24605D9C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CD3-03C3-4642-BD95-5DE70A1B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0B9A-C68A-46BF-AC80-BD889DF1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A04E-B422-45E6-AF0B-FB9583A9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D1D5-59EA-4CD5-B22A-B5E78145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3865-3CFC-4627-90DC-4F93278E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E904-D925-444B-861B-1AEF7CD7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7CFB-58A8-4F94-BE52-5D397BB3C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563C-A79F-40E1-8F5B-517FE9E8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29A8-A157-4FD1-9BAF-46CEC5B6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7835-37E7-48B6-9ACC-F3281FFD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3F1E-7E4B-40F0-8D8D-136CF78FE1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920" y="43434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Joseph Penningt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Deputy Chief of Mis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98989"/>
                </a:solidFill>
                <a:latin typeface="Calibri"/>
              </a:rPr>
              <a:t>U.S. EMBASSY PRAGUE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http://photos.state.gov/libraries/czech-republic/119398/embassy/US_Emb_Logo300.jpg"/>
          <p:cNvPicPr/>
          <p:nvPr/>
        </p:nvPicPr>
        <p:blipFill>
          <a:blip r:embed="rId1"/>
          <a:stretch/>
        </p:blipFill>
        <p:spPr>
          <a:xfrm>
            <a:off x="3124080" y="838080"/>
            <a:ext cx="28576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6:31:06Z</dcterms:created>
  <dc:creator>Veronika Novakova</dc:creator>
  <dc:description/>
  <dc:language>en-US</dc:language>
  <cp:lastModifiedBy>Veronika Novakova</cp:lastModifiedBy>
  <dcterms:modified xsi:type="dcterms:W3CDTF">2012-11-21T16:34:26Z</dcterms:modified>
  <cp:revision>2</cp:revision>
  <dc:subject/>
  <dc:title>Slide 1</dc:title>
</cp:coreProperties>
</file>