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3FED4-BD80-4954-8F61-2B0C05B8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5345-3527-422F-A757-984CFFDB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546E7-813C-4C59-858C-90BB4D4F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85828-35D1-47BC-86E3-FD30860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E5A7-7A49-4DA6-A2E1-3EDD70BC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992B-FE01-41A4-9717-3A4E855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BAB9F-C79B-4A18-A73F-3DF38DCC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62BCF-5B92-4074-AF35-53C2E261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2DA5-8FF5-4C54-8BD3-A707716D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F63A-A763-4A69-9010-78A40F4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0762-9803-4262-8D0E-93BC7B1D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71FD4-0DE7-4D38-8133-DEC4CC7E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3DE5-E057-4739-8561-7740AE32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B05D-D029-44FE-A126-509CD184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E92D-D537-4780-9B20-50346234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DDB83-058F-49B7-970A-208F09C9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AD67-7259-47F8-838F-8F9B75AF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80A00-F3B8-4F59-B4AD-B9023C97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BF32-1E3D-4657-9B64-997E2AFA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64C7B-B874-4D65-B316-4797F2A3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AC50B-A1B8-4F6B-8A9B-20067E8A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63A7-D5C6-468A-9FE6-D0286582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B2726-CAB8-4CEB-B678-C8C49B16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E49B-B5F9-4B5F-80EC-C69C5524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7385-44F9-49EA-8C44-5513BD9C9E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20AC-711E-4435-9FB5-A509C13180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Vztahy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alibri"/>
                <a:ea typeface="Calibri"/>
              </a:rPr>
              <a:t>mezi nemocnicemi a Z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  <a:ea typeface="Calibri"/>
              </a:rPr>
              <a:t>intro diskusního blok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avel Frňka, SZP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logoszpcr"/>
          <p:cNvPicPr/>
          <p:nvPr/>
        </p:nvPicPr>
        <p:blipFill>
          <a:blip r:embed="rId1"/>
          <a:stretch/>
        </p:blipFill>
        <p:spPr>
          <a:xfrm>
            <a:off x="7524720" y="189000"/>
            <a:ext cx="1187640" cy="1173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Roky memo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emorandum odborů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o zvýšení mezd zdravotní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odmínka vyšší efektivity služ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emorandum pojišťove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set tisíc lůžek 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polupráce ZP, krajů a zřizovatelů jako me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emorandum pojišťoven a MZ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avidla posuz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závaznost spolupráce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Calibri"/>
                <a:ea typeface="Calibri"/>
              </a:rPr>
              <a:t>Proč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  <a:ea typeface="Calibri"/>
              </a:rPr>
              <a:t>Chceme smlou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alibri"/>
              </a:rPr>
              <a:t>tam, kde je potřebují naši kli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alibri"/>
              </a:rPr>
              <a:t>s těmi, kteří zajistí dobrou kvalitu služeb za rozumnou c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Klíčové obla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zhodnocení produkce ve vybraných oborech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grace pacientů za zdravotní péč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využití lůžkového fondu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ografická dostupnost péč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inimální počty klíčových výkonů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kvalita a efektivita poskytované zdravotní péč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kreditace zdravotnických zařízení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Calibri"/>
                <a:ea typeface="Calibri"/>
              </a:rPr>
              <a:t>Cíl - připravit strukturu pro poskytování kvalitních služe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  <a:ea typeface="Calibri"/>
              </a:rPr>
              <a:t>Vyhodnocení potřeby služeb na úrovni jednotlivých obor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alibri"/>
              </a:rPr>
              <a:t>produkční poh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Calibri"/>
                <a:ea typeface="Calibri"/>
              </a:rPr>
              <a:t>logika poskytování služby a její prováza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Calibri"/>
                <a:ea typeface="Calibri"/>
              </a:rPr>
              <a:t>Mapa potřeby a distribuce kapa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Calibri"/>
                <a:ea typeface="Calibri"/>
              </a:rPr>
              <a:t>Stav k 26.11.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K plné dohodě na parametrech smlouvy o poskytování a úhradě  akutních lůžkových služeb  s účinností od 1.1.2013 došlo u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Lucida Grande"/>
              </a:rPr>
              <a:t>12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 poskytovate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Jednání nadále probíhají se zbývajícími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Lucida Grande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 poskytovateli akutních lůžkových služ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Společně tedy ještě hledáme řešení pro cca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Lucida Grande"/>
              </a:rPr>
              <a:t>1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Lucida Grande"/>
              </a:rPr>
              <a:t> stanic z celkových více než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Lucida Grande"/>
              </a:rPr>
              <a:t>2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  <a:ea typeface="Calibri"/>
              </a:rPr>
              <a:t>Děkuji za pozornos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484360" y="4266720"/>
            <a:ext cx="6507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  <a:ea typeface="Calibri"/>
              </a:rPr>
              <a:t>Svaz zdravotních pojišťoven Č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000000"/>
                </a:solidFill>
                <a:latin typeface="Calibri"/>
                <a:ea typeface="Calibri"/>
              </a:rPr>
              <a:t>www.szpcr.cz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logoszpcr"/>
          <p:cNvPicPr/>
          <p:nvPr/>
        </p:nvPicPr>
        <p:blipFill>
          <a:blip r:embed="rId1"/>
          <a:stretch/>
        </p:blipFill>
        <p:spPr>
          <a:xfrm>
            <a:off x="0" y="6029280"/>
            <a:ext cx="83808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57:46Z</dcterms:created>
  <dc:creator>pavel.frnka</dc:creator>
  <dc:description/>
  <dc:language>en-US</dc:language>
  <cp:lastModifiedBy>Pavel Frňka</cp:lastModifiedBy>
  <dcterms:modified xsi:type="dcterms:W3CDTF">2012-11-27T11:34:02Z</dcterms:modified>
  <cp:revision>30</cp:revision>
  <dc:subject/>
  <dc:title>Jak vidí DRG  SZP ČR?</dc:title>
</cp:coreProperties>
</file>