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8036-1864-4003-99FC-C0421FDD194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MODITNÍ BUR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istikované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 zde řada ředitelů nemocnic, kterých si vážím, kteří situaci znají, často lépe než já. Je tu ale i řada lidí, kteří vnímají hospodaření nemocnic zprostředkovaně, někteří jsou i mediálně vlivní, kteří jsou monetárně vlivní. Když jsme skládali přednášku, řekli jsme si, že se na tu věc podíváme selskou logikou. Proto se znalcům omlouvám za občasné zjednodušení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átní úvod, abychom věděli, o čem mluví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 10 let je průměrný roční ztráta zařízení 22 miliónů. Za těch 10 let se vystřídaly 4 managementy a nemocnice v polovině období přešla z příspěvkové organizace na akciovou společn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Řekli jsme si, že je to jednoduché. Přece náklady se musí rovnat výnosům. Základní podmínkou je udržení kvality péče. Druhou je alespoň minimální reproduk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áklady jsou počítané včetně nákupů veřejné lékárny. Bez ní činí mzdové náklady 60 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žný negativní dopad do pracovní morál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utsorcing – fígl – přesun nákladů do služ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C0FA-5D32-4FF9-B48B-2EC9486B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18EE-1993-4ABE-9C30-AD27C304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BB58-E41F-4E0A-BFF0-3941A20C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C3BC-4129-4AE3-BAC7-5A5B7916D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B616-2B5C-4A5E-B79F-7B10A73A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9431-8987-4F72-B2E1-A4C6FDCB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F005-B2DD-4F91-ADC7-C8B37050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4DB2-C338-48D7-B40B-76A205D8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B47C-0DB7-4579-986C-08EB24A6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A491-3C00-47B7-90E9-76351B9D2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145D-16AF-44C8-A579-7FEF54F3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BD1F-CB47-41A1-A019-5C26127B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DC4D-FB4F-4A02-A687-6F50B0FA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7F06-E831-417C-AE29-03462E56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F687-823A-40B8-8362-42BDC551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64BF-5B20-499A-91A0-72FD13FB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70FE4-F97D-42C4-AA45-D1AED6E04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3145-A2D8-4318-816F-B4A1F0BA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DF58-357D-4142-B0C5-A6296B86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BD11-C472-4D40-9600-DAA4125E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7C94-4A0B-484E-AC23-B6F3538A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8F2F-EF42-470C-9228-8383EF85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359B-F4F0-4527-A494-6DEAAA49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EC9E-744C-4181-B97F-58759008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2975-57AD-42F4-B37E-B5B586AD1CB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A68B-D336-4C34-8325-70FAE067DFC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LZE ZLEPŠIT HOSPODAŘENÍ REGIONÁLNÍ NEMOCNICE V TÉTO DOBĚ?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Petr Chmátal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6666"/>
                </a:solidFill>
                <a:latin typeface="Arial"/>
              </a:rPr>
              <a:t>Martin Říh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NEZDRAVOTNICKÝ MATERIÁL (4%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PL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triktní omezení oprávněný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Obchodní odděle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outěže a výběrová říze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Kontrola systému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MĚRNICE O NÁKUPECH (přísnější než zákon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MIN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ertifikace IS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kreditace SA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ozvoj kvality hotelových služeb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Nárůst cen potrav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5734080"/>
            <a:ext cx="7272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, CO USPOŘÍME PRAVIDLY A KONTROLOU, TO ZMIZ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 CENOVÝCH NÁRŮSTECH A DPH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LUŽBY (6%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377064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66"/>
                </a:solidFill>
                <a:latin typeface="Arial"/>
              </a:rPr>
              <a:t>PL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Důsledné veřejné soutěže a výběrová řízení – přesoutěžení smluv = 1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Vyhnání falešných prorok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IN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eprokázané dohody dodavatelů v soutěžích = nárůst cen služeb (odpady, med. plyny…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5661000"/>
            <a:ext cx="7489800" cy="8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E VŠECHNY SOUTĚŽE VEDOU KE SNÍŽENÍ CENY SLUŽEB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ÚSPOR DOSAHUJEME V ŘÁDU JEDNOTEK 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ERGIE (6%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66"/>
                </a:solidFill>
                <a:latin typeface="Arial"/>
              </a:rPr>
              <a:t>PL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Soud s outsourcingovým dodavatele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latby podle znaleckých posudků (480 Kč/Gj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IN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Čekání na ukončení soud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áklady na řešení technologické zastaralosti řádech desítek 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42920" y="5805360"/>
            <a:ext cx="7489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ISTORICKÁ STRATEGICKÁ CHYBA DNES LIMITUJE VÝVOJ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UČENÍ: VELKÉ ZAŘÍZENÍ MUSÍ MÍT ZDROJE VE SVÝCH RUKO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PRAVY (1%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LU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ytvoření pravidel oddělení zdravotnické technik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ytvoření kontrolních mechanizmů zabraňujících neefektivitě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IN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6021360"/>
            <a:ext cx="756144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OMINUJÍCÍ ZÁVISLOST NA KVALITĚ STŘEDNÍHO MANAGEMENT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DIVIDUALITY - LÉKÁRN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L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veden procesní aud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Úspora 3M/r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IN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okles tržeb od roku 2012 o 20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ŘÍČINY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končení proplácení poplatků za RP ze strany majite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Konkurence lékárenských řetězců od supermarket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DIVIDUALITY - 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L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IN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Roční náklady v řádech 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5246" t="14910" r="5518" b="16719"/>
          <a:stretch/>
        </p:blipFill>
        <p:spPr>
          <a:xfrm>
            <a:off x="-973080" y="0"/>
            <a:ext cx="1036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DRAVOTNICKÁ ČINNO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L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Úhradová vyhláška 2012: až 13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ptimalizace lůžek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IN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Úhradová vyhláška 2011: - 11,5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okles porodnosti: -200 porodů = 400 hospitalizac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58920" y="5734080"/>
            <a:ext cx="7129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 OBLASTI ÚHRAD NENÍ AKTUÁLNĚ NADĚJ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ZDRAVOTNICKÁ ČINNO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jí se nemocnice soustředit na rozvoj podnikatelských aktiv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latí ještě poučka, že organizace se mají věnovat svému „core businessu“ 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imořádné příjmy: prodej majetk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JAKÝ JE ZÁVĚ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ZE ZLEPŠIT HOSPODAŘENÍ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O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RGANIZACÍ PRÁCE (procesními audity a vnitřními změnami, optimalizací lůžek, restrukturalizací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ZE DOSÁHNOUT ÚSPOR, ALE ÚSPORY POUZE UDRŽÍ NEMOCNICI VE ZTRÁTOVÉ ROVNOVÁZE, NAVÍC VĚTŠINA MOŽNOSTÍ JE JIŽ VYČERPÁN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de jsou rozvojové zdroje a investiční záměr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DMÍNKOU DALŠÍ SMYSLUPLNÉ PRÁCE JE DEFINICE JASNÉ VIZE REGIONÁLNÍHO ZDRAVOTNICTVÍ A STABILNÍ PROSTŘEDÍ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000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79280" y="1844640"/>
            <a:ext cx="252108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Děkuji z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pozorno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124000" y="1557360"/>
            <a:ext cx="676908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EMOCNICE S POLIKLINIKO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4,5 tis. hospitalizací/r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6 tis. výkonů v celkové anestesi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40 tis. ambulantních vyšetření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10 tis. spádová obla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50 km dojezdová vzdálen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830 zaměstnanců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47 akutních + 128 následných lůžek/201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630 mil./r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DLOUHODOBÁ ZTRÁTOVOST ZAŘÍZENÍ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2362320"/>
          <a:ext cx="8351640" cy="4306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62320"/>
                    <a:ext cx="8351640" cy="43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116000" y="3933720"/>
            <a:ext cx="2592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ÝNOS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40360" y="3933720"/>
            <a:ext cx="2592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ÁKLA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260280"/>
            <a:ext cx="83516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DMÍNKY: NEZHORŠIT KVALITU PÉČ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9640" y="1557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12400" t="13290" r="15884" b="165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ZDOVÉ NÁKLADY ( 60 %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L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010 plošné snížení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011 snížení příplatků za přesčas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012 propuštění 40 zaměstnanců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16000" y="227628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IN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011 děkujeme – odcházíme = nárůst až o 13 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5734080"/>
            <a:ext cx="7489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ÝSLEDEK DVOU LET KOLEKTIVNÍHO VYJEDNÁVÁNÍ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ULOVÝ EFEKT A ZÁVIDÍCÍ SI ZAMĚSTNANC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ERSPEKTIVY MZDOVÝCH NÁKLADŮ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L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ptimalizace počtu zaměstnanců podle vyhlášek a zákonů (prakticky hotov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cesní audity pracovišť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IN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AVDĚPODOBNÝ NÁRŮST MEZ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42920" y="5734080"/>
            <a:ext cx="7632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POUŠTĚNÍ SE VŠEMI NEGATIVNÍMI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CIÁLNÍMI A PERSONÁLNÍMI DŮSLEDK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ZDRAVOTNICKÝ MATERIÁL (18%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L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ozitivní listy na SZ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zavření smluv přes obchodní oddělení = úspora 10 M/r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ozitivní listy na léky = předpoklad 6 M/r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IN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árůst DPH = cca 6 M/2rok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5805360"/>
            <a:ext cx="7416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ÚSPORY Z RACIONALIZACE A POŘÁDKU V NÁKUPU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DRAVOTNICKÉHO MATERIÁLU POHLTÍ NÁRŮST DP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5T09:53:50Z</dcterms:created>
  <dc:creator>UVN</dc:creator>
  <dc:description/>
  <dc:language>en-US</dc:language>
  <cp:lastModifiedBy>UVN</cp:lastModifiedBy>
  <dcterms:modified xsi:type="dcterms:W3CDTF">2012-11-27T07:51:13Z</dcterms:modified>
  <cp:revision>6</cp:revision>
  <dc:subject/>
  <dc:title>LZE ZLEPŠIT HOSPODAŘENÍ REGIONÁLNÍ NEMOCNIC E V TÉTO DOBĚ?</dc:title>
</cp:coreProperties>
</file>