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A8CC-8E28-4FD0-8B3F-3016D590212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2DD2-6E37-4888-8188-B5D5FC7829B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275C-86AA-4904-90DB-BF36F491FE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9108-40F1-4B79-9E9C-6BDEE9EFDA5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EB09-C60D-4B82-9B9D-E8A6239C2D7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9109-8249-428D-839D-FA8FB3220A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8228-C25A-4660-B3A8-D8AF2E07C6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836F-B607-483F-9A38-8307573712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AC3C-CC1F-4892-A3F0-EC70D30FCDC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3BDE-52D8-4A31-84EE-45BC5087F6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B0BB-3960-4D40-8E79-DE592C7142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9615-55A8-42EB-A0CB-9D25259BA3C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0787-B96A-4C9E-A485-269F1C76C7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A946-8B2D-4BA8-B4DB-5D1DC8A728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3A08-E606-4E8C-8BB7-7540482135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B58F-96A3-4A2A-8006-062948D2A9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1CFD-B10B-4E56-92A4-3C015284523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0481-4E29-41BC-87DD-32F8F7BBEE6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65D0-D97E-4C30-83FF-00B5939BD6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2683-DC5A-4B6F-9AD7-C33D2B4D32A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8746-A03C-458A-A2C2-1FC234E48B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ástupný symbol pro číslo snímku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D4CF-477B-4D66-BD6B-32A513D1D17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DE8-27C3-41A9-846F-87EA71EC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C629-6F19-4749-99EE-A45DF9E7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207A-C3E0-4632-954C-172F4F29E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F6E-F1A6-4E03-BCD1-ABEAA3226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1AD-8596-41BB-9065-63658D6C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8C9-4F67-4A5F-AB28-734AF303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7836-654B-4249-9F39-17261C7F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2EA-B8CC-4EBD-AC80-BD2978A9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68000" y="274320"/>
            <a:ext cx="641844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1478-1B59-4C20-86AF-4A0DC32E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EB3-D19C-4412-8029-049D822C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05A-07B0-4781-A99D-8274C918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CB8A-4C89-4646-A7B5-4AC5EC34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4EA7-9A92-42E8-A577-651BE57D960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FN"/>
          <p:cNvPicPr/>
          <p:nvPr/>
        </p:nvPicPr>
        <p:blipFill>
          <a:blip r:embed="rId2"/>
          <a:stretch/>
        </p:blipFill>
        <p:spPr>
          <a:xfrm>
            <a:off x="468360" y="260280"/>
            <a:ext cx="1582560" cy="90504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835280" y="1085760"/>
            <a:ext cx="68403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hrabak@fnplzen.cz" TargetMode="External"/><Relationship Id="rId2" Type="http://schemas.openxmlformats.org/officeDocument/2006/relationships/hyperlink" Target="mailto:hrabak@fnplzen.cz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773360"/>
            <a:ext cx="799308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Efektivní nemocnice 2012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ztahy mezi poskytovateli a plátc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6560" y="5589720"/>
            <a:ext cx="7705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ng. Petr Hrabák                                           27.11.20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bližování základních saz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RG skupina v sobě zahrnuje několik podobných diagnóz či několik podobných výkonů. Klinicky homogenní případy budou s největší pravděpodobností homogenní i nákladově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ý koncept funguje pouze v případě, že každá nemocnice má přibližně stejnou strukturu pacientů. Další nutnou podmínkou je, že klasifikační systém nehomogenity dokáže rozpoz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Pokud to tak není, dochází k přelévání finančních prostředků 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specializované péče do jednodušších případ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ou výzvou stále zůstává nehomogenita skupin, systém příplatků, ekonomický outlier, stanovení podmínek pro přijetí, kombinace výkonů či komorbid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mi obtížně a pomalu jsou „za pochodu“ tvořena pravidla pro kódování. Vyhláška ale již obsahuje sankce za jejich poruš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bližování základních saz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ako vzor pro fungování DRG včetně sbližování základních saz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 dává Německo, ale tam 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ena ztráta nemocnic (1.5 – 2.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/ r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rostl počet DRG skupin na dvojnásob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šlo k vyjmutí celých bazí mimo úhradu D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istuje 143 různých typů příplatků (výkon, ZUM/ZUL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sou stanoveny komplexní podmínky pro náro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lasifikace umí zohlednit kombinace více diagnó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vyřešena úhrada překladů, rehospitalizací (krác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šlo k definování prahu pro přijetí k hospitaliza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vestice, vzdělávání, výzkum jsou hrazeny mimo v.z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čně provedeny tisíce modelací a stovky úpr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bližování základních sazeb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epé střevo by skutečně mělo stát všude stejně, ovšem za předpokladu stejného (přístrojového) vybavení, stejných léčivých přípravků, obdobného materiálu a stejných platů personál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íčkovou můžeme uvařit z pravé svíčkové ale i ze sekané. Náklady na jedno jídlo budou velmi odlišné a zcela určitě lze poměrně hodně ušetřit. Bude to ale stále svíčková nebo jen její ekonomicky nejméně náročná variant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álně je dnes specializovaná péče dotována z vyšší úhrady za péči základní. Lze prokázat, že s rostoucí cenou případu klesá jeho úhrada prostředky DRG. Procentní podíl nákladnějších případů je ale v různých nemocnicích jin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érová úhrada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26760"/>
            <a:ext cx="829152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cientka resuscitována, ÚPV 20 dnů, fibrilace komor, pneumonie, sepse, implantace ICD. Délka hospitalizace 70 dnů, celkové náklady 1.400.000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DRG se nejedná o balíček, ale o dlouhodobou mechanickou ventilaci (DRG 00121) s úhradou 926.000 Kč. Celková ztráta FN Plzeň na tomto případu činí 474.000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vodem je MHTP = 209.000 Kč,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z ceny kardioverteru dostáváme tedy pomocí materiálového outliera pouze cca jednu polovin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érová úhrada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526760"/>
            <a:ext cx="829152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vorozenec, porodní váha 1170g, resuscitace, ventilace, pneumonie léčená ATB, podány imunoglobuliny. Délka hospitalizace 46 dnů, náklady 750.000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DRG jde o komplikovaného novorozence s porodní váhou 1.0-1.5 kg (DRG 15653). Úhrada v DRG alfa činí 471.000 Kč, ztráta pro FN Plzeň za tento případ je tedy 279.000 Kč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hledem k tomu, že pacient byl hospitalizován na JIP, nelze vykázat k TISSu žádný ZUM/ZULP, </a:t>
            </a:r>
            <a:r>
              <a:rPr b="0" lang="cs-CZ" sz="2000" spc="-1" strike="noStrike">
                <a:solidFill>
                  <a:srgbClr val="ff3300"/>
                </a:solidFill>
                <a:latin typeface="Arial"/>
              </a:rPr>
              <a:t>ekonomický outlier se neuplatní (veškeré náklady jsou v bodech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érová úhrada ??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26760"/>
            <a:ext cx="829152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Ro 6, 8.11.2012, zástupce AČMN, MUDr. Ing. Petr Fia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še nemocnice zachraňovaly v té metylalkoholové aféře spoustu lidí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šetřily stovky pacientů. A úhrada pojišťoven byla 40 tisíc, ale ná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vyléčení toho pacienta byla zhruba dvě stě tisíc, ale to ještě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apočítává ten norský lék, který stojí sto tisíc. Čili nemocnice dos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placenou nějakejch, já nevím, patnáct, dvacet procent té péče. Čili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ž zakládá samozřejmě jakýsi právní důvod ke sporu, proč by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mocnice v této kauze tak špatně placeny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rcRect l="0" t="30319" r="44668" b="18408"/>
          <a:stretch/>
        </p:blipFill>
        <p:spPr>
          <a:xfrm>
            <a:off x="250920" y="189000"/>
            <a:ext cx="8713800" cy="639108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132000" y="3500280"/>
            <a:ext cx="1368720" cy="28764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132000" y="2852640"/>
            <a:ext cx="1368720" cy="2872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132000" y="5661000"/>
            <a:ext cx="1368720" cy="2872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3132000" y="5950080"/>
            <a:ext cx="1368720" cy="2872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ecializovaná cent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526760"/>
            <a:ext cx="829152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á ZP má ve zvláštní smlouvě jiný seznam „centrových“ léčivých přípravků. Jak se zajistí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rovný přístup ke zdravotním službá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četně čekacích do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ravidla jde o podmnožinu symbolu „S“, někteří plátci však uznávají i některé ostatní ATC skupiny (zajištění léč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není obsahem zvláštní smlouvy, jsou „hrazeny“ v ambulantním paušálu (naprostá většina případů) nebo při hospitalizaci pomocí DRG beta (ovšem s limite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bjem úhra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určený pro specializovaná centra dnes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reálně nestač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a všechny pacienty, kteří splňují indikační omezení SÚKLu. To je však pouze část těch, kteří by měli být léčeni podle doporučených postupů odborných společností a mohli by z léčby profit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ecializovaná cent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526760"/>
            <a:ext cx="829152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álně se schvalují výjimky revizním lékařem ZP, ale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bez navýš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limitu na úhrad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enších ZP vývoj nákladů i počtu léčených pacientů nekopíruje přesuny v počtech klientů (jednotky pacientů v cenách mil. Kč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les cen nestačí pokrývat nárůst nemocných, kteří do center přicházejí. Léčba také prodlužuje přežití a zvyšuje jeho kvalitu (sociální a nemocenské dávk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á odborná společnost disponuje odhadem dalšího vývoje počtu léčených pacientů. Pokud z nich vychází, že léčíme jen polovinu nemocných, není někde chyb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řízení vlády stanovuje čekací dobu jen v případě RS, u ostatních (zejména chronických) center se situace neřeší. I v případě RS však je však obtížné chování plátců předpovíd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dále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526760"/>
            <a:ext cx="829152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 může udělat nemocnic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padě neschválení výjimky si může pacient léčbu hradit sám. Vzhledem k vysokým nákladům jde však o možnost spíše teoreticko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ze zavést vlastní (nemocniční) HTA a přidělené prostředky na centra podle výsledků přerozdělovat (onkologie x chronická léčb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me také prodlužovat čekací dobu nebo tyto LP dotovat z jiných oblastí rozpočtu (investice, inovace, platy, léčba jiných pacientů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to jsou ale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jen dílčí řeše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á výslednou ztrátu minimaliz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pujeme si tím určitý čas, ale řešení musí přijít z vyšší úrovně, ji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de celý systém specializovaných center velmi brzy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neufinancov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telný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egislativ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Zákon o veřejném zdravotním pojišt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ty bodu, výše úhrad hrazených služeb a regulační omezení se vždy na následující kalendářní rok dohodnou v dohodovacím řízení zástupců ZP a profesních sdružení poskyto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jde-li k dohodě, posoudí její obsah MZ ČR z hlediska souladu s právními předpisy a veřejným zájm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-li dohoda v souladu s právními předpisy a veřejným zájmem, vydá ji MZ ČR jako vyhláš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dojde-li k dohodě nebo shledá-li MZ ČR, že tato dohoda není v souladu s právními předpisy nebo veřejným zájmem,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stanov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hodnoty bodu, výši úhrad hrazených služeb a regulační omezení MZ ČR vyhláš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áška se použije, pokud se poskytovatel a ZP za podmínky dodržení zdravotně pojistného plánu ZP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nedohodno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 způsobu úhrady, výši úhrady a regulačních omezeních ji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dále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526760"/>
            <a:ext cx="8291520" cy="507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Nemocnice, klinika či dokonce lékař přece nemůže stanov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dmínky pro úhradu léčby z veřejného zdravotního pojištění, co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nes reálně všichni dělám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 předpokladu nenavyšování příjmů (tedy i výdajů) musí co nejdří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jít k úpravě indikačních omezení tak, aby byla ufinancovatelná a Z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smí schvalovat úhradu z prostředků v.z.p. v jiných případ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é cesty ke snížení dostu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ýšit práh k zařazení do léč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nížit práh k vyřazení z léč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mezit přístup nových LP do ČR (H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rozšiřovat indikace LP stávajících (H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řadit část používaných LP z v.z.p. (QA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dloužit čekací doby (nařízení vlá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000" y="1600200"/>
            <a:ext cx="8496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g. Petr Hra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á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dbor zdravotního účtování a statisti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FN Plzeň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rabak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fnplzen.c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7 740 22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ali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hoda v dohodovacím ří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segmentu ústavní péče téměř vždy nedohoda. Důvodem je rozp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zi stá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éměř) stejným výběrem pojistné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stoucími náklady poskyto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výšení platů (několik fáz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výšení DPH (několik fáz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alizovaná centra (nové LP, d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vé technologie, léčivé příprav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árnutí populace (pokles výběru, nárůst spotře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ndardy, ISO, NAS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ali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Z ČR musí tedy stanovit výši úhrady a regulace vyhlášk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to vyhláška existuje i pro tento rok, ale nepokrývá všechny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řadě bodů je nekonkrétní a nejednoznačná (řeší se při vyúčt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tzv. individuálně sjednané složky úhrady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nedohodu neřeší vůb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ní tedy ošetřena nedohoda v případ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alíčků (KS/KV, TEP, OKA, 1-denní péče) – počet, cena, term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letošního roku i specializovaných center (objem, dg., A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ali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vrhy úhradových dodatků přichází od plátců často až na podz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ástí balíčků je většinou plánovaná péč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ní zaručen počet výkonů a výše ú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dravotní pojišťovny tak mohou ZZ vydí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mlouvy proto podepisovány pod nátlak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sou řešeny kombinace, standard materiál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 zkušenostech z předchozích let to poved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erování jen v druhé polovině ro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 prodlužování čekacích d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běru jiného (levnějšího) materiá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ůzné dostupnosti služeb (doba, kvali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rům u akutních služeb (KS/KV/TE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eali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láška se použije, pokud se poskytovatel a ZP nedohod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oto ustanovení vyhláška obsah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álně k dohodám dochází (paušá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vní pokusy ZP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vyhlášku nerespekt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álné dopady v desítkách mil. Kč / nemoc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bezpečné pro záměr sbližovat IZS mezi Z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ZP - koeficient navýšení o 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% n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válený zdravotně pojistný plá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PZP – IZS o 6.000 Kč niž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poskytovatel prokáže vyšší náklad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noho limit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 poji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šťov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káme, že je žádoucí koncentrovat specializovanou péči do velký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mocnic (to měl být i cíl tzv. restrukturalizace), ale …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zárove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regulujeme poměr počtu případů a casemix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ujeme se, že v DRG beta jsou nehomogenní skupiny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edvídatelnou strukturou, náklady i klinickým průbě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lytraumata, transplantace), ale …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zároveň omezujeme výši ú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na 100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%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 center koncentrujeme pacienty, 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hradíme u nich jen LP a ješ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s limitem (na všechny se nedostane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chází k masivnímu přesunu pacientů mezi zdravotními pojišťovnam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e …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není nijak kompenzován (10-15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%)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to letos vypadá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11280" y="1341360"/>
          <a:ext cx="8064360" cy="5040360"/>
        </p:xfrm>
        <a:graphic>
          <a:graphicData uri="http://schemas.openxmlformats.org/drawingml/2006/table">
            <a:tbl>
              <a:tblPr/>
              <a:tblGrid>
                <a:gridCol w="1515960"/>
                <a:gridCol w="1181160"/>
                <a:gridCol w="1108080"/>
                <a:gridCol w="1108080"/>
                <a:gridCol w="1106280"/>
                <a:gridCol w="1013040"/>
                <a:gridCol w="1031760"/>
              </a:tblGrid>
              <a:tr h="97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át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CM ALF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PP ALF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výkonově BE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body AM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URČ AMB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Úhrad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 - VZ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0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4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,8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,4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,5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9,4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 - VoZ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20,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12,2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7,2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13,5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06,43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4,1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 - ČPZ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,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,2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98,5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16,5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,1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9,2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7 - OZP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4,8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90,4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157,14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4,8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,9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0,3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9 - ŠKO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 - ZPM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,8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6,3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,79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,3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4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3,1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3 - REVÍRN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7 - ZP 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8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,0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71,9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,17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,01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4,00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LKE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1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,55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,9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,76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,62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3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99,48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0" y="274320"/>
            <a:ext cx="6418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roklamace x reali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2712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ou nám skutečně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eníze za pacientem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jí všichni pacienti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aručen rovný přístup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kdy a jak k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álně spíše nastává hon na „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rávn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“ pacienty, protože jin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kytovatel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při rostoucí produkci dostává nižší úhrad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19:22:44Z</dcterms:created>
  <dc:creator>SIS</dc:creator>
  <dc:description/>
  <dc:language>en-US</dc:language>
  <cp:lastModifiedBy>Jája a Pája</cp:lastModifiedBy>
  <dcterms:modified xsi:type="dcterms:W3CDTF">2012-11-19T08:39:55Z</dcterms:modified>
  <cp:revision>263</cp:revision>
  <dc:subject/>
  <dc:title>FAKULTNÍ NEMOCNICE PLZEŇ</dc:title>
</cp:coreProperties>
</file>