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</p:sldIdLst>
  <p:sldSz cx="9144000" cy="6858000"/>
  <p:notesSz cx="6858000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63386-12FD-42D2-935E-0BC253A6D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dcf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02489-14B5-485F-9D3A-2A35A20CD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dcf00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rebuchet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rebuchet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rebuchet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BDDA9-0DDE-45E7-905E-628505678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dcf00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rebuchet MS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rebuchet MS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D994D-5AAE-4D4D-AC15-2EEBA8ADD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4FAA8-2D80-491F-AF2A-C64456168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dcf00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0361B-FA15-47FB-950A-7B63C41C9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dcf00"/>
              </a:solidFill>
              <a:latin typeface="Trebuchet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FB924-E9B0-4BC5-B33E-29105A95A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dcf00"/>
              </a:solidFill>
              <a:latin typeface="Trebuchet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rebuchet M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6D799-DB42-4ABD-B6F8-2EEB88FAD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dcf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FF004-DFEE-4809-8468-40E3EF60E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33D59-F080-4514-97B8-3AA500650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dcf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AE33B-9522-43BC-95D8-E85022FEE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dcf00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13260-7FA4-4046-9F0F-B82D94C46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dcf00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B5CF5-06F5-478F-A6AB-6DC72F37E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dcf00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rebuchet M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35854-95D3-4FD4-8269-5176B86C3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dcf00"/>
              </a:solidFill>
              <a:latin typeface="Trebuchet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rebuchet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FC4BA-203F-4510-9710-4BF5AA008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dcf00"/>
              </a:solidFill>
              <a:latin typeface="Trebuchet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rebuchet M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rebuchet MS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rebuchet MS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0EB16-E4CF-405A-B77F-155D12154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dcf00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rebuchet MS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rebuchet MS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rebuchet MS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45EC6-A0C6-4558-85F2-86D196624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E75E79-5D75-4DDE-931F-3DD8952E2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dcf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E32E5D-049D-4C19-91AE-0C6AC49EF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dcf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411903-996C-4D0C-9BBD-F699A4B3A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dcf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36AF44-243D-4EEB-9AEF-4E511D129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dcf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8EA244-D72B-4720-B895-2A4050735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dcf00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118AB-ECD5-49DC-9320-021A989E9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755551-DB87-47A5-B6A8-32A20FD91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dcf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B3E9B2-5C97-401D-A418-641B3ABCB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dcf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615E61-90BD-4515-83C5-5D3841DC9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dcf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796DE1-7E68-43BA-A9E1-3E2B3F018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dcf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6DC922-4654-495B-8D60-4ED5323F1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dcf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77270B-B66E-4744-AEE1-26CEF0C3C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dcf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BD1D6D-7A14-4DB7-A730-EFD12F4EF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dcf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rebuchet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1D79C-C5EE-483E-8D92-AE0F9D715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dcf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D79AC-F00E-4AD9-BF9F-93834B79C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47222-7D39-49EF-9A80-1A9EA7355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dcf00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rebuchet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E2BE6-60E6-456A-806E-2D7367F56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dcf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774F1-4919-4A31-BFBA-0CA213C60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dcf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F36FE-3131-44D8-9E25-DF2F532EB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dcf00"/>
                </a:solidFill>
                <a:latin typeface="Trebuchet MS"/>
              </a:rPr>
              <a:t>Click to edit the title text format</a:t>
            </a:r>
            <a:endParaRPr b="1" lang="en-US" sz="3200" spc="-1" strike="noStrike">
              <a:solidFill>
                <a:srgbClr val="bdcf00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1000e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rebuchet MS"/>
              </a:rPr>
              <a:t>Click to edit the outline text format</a:t>
            </a:r>
            <a:endParaRPr b="0" lang="en-US" sz="2800" spc="-1" strike="noStrike">
              <a:solidFill>
                <a:srgbClr val="333333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d1000e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333333"/>
              </a:solidFill>
              <a:latin typeface="Trebuchet MS"/>
            </a:endParaRPr>
          </a:p>
          <a:p>
            <a:pPr lvl="2" marL="1143000" indent="-228600">
              <a:spcBef>
                <a:spcPts val="700"/>
              </a:spcBef>
              <a:buClr>
                <a:srgbClr val="d1000e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rebuchet MS"/>
              </a:rPr>
              <a:t>Third Outline Level</a:t>
            </a:r>
            <a:endParaRPr b="0" lang="en-US" sz="2800" spc="-1" strike="noStrike">
              <a:solidFill>
                <a:srgbClr val="333333"/>
              </a:solidFill>
              <a:latin typeface="Trebuchet MS"/>
            </a:endParaRPr>
          </a:p>
          <a:p>
            <a:pPr lvl="3" marL="1600200" indent="-228600">
              <a:spcBef>
                <a:spcPts val="700"/>
              </a:spcBef>
              <a:buClr>
                <a:srgbClr val="d1000e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rebuchet MS"/>
              </a:rPr>
              <a:t>Fourth Outline Level</a:t>
            </a:r>
            <a:endParaRPr b="0" lang="en-US" sz="2800" spc="-1" strike="noStrike">
              <a:solidFill>
                <a:srgbClr val="333333"/>
              </a:solidFill>
              <a:latin typeface="Trebuchet MS"/>
            </a:endParaRPr>
          </a:p>
          <a:p>
            <a:pPr lvl="4" marL="2057400" indent="-228600">
              <a:spcBef>
                <a:spcPts val="700"/>
              </a:spcBef>
              <a:buClr>
                <a:srgbClr val="d1000e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rebuchet MS"/>
              </a:rPr>
              <a:t>Fifth Outline Level</a:t>
            </a:r>
            <a:endParaRPr b="0" lang="en-US" sz="2800" spc="-1" strike="noStrike">
              <a:solidFill>
                <a:srgbClr val="333333"/>
              </a:solidFill>
              <a:latin typeface="Trebuchet MS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rebuchet MS"/>
              </a:rPr>
              <a:t>Sixth Outline Level</a:t>
            </a:r>
            <a:endParaRPr b="0" lang="en-US" sz="2800" spc="-1" strike="noStrike">
              <a:solidFill>
                <a:srgbClr val="333333"/>
              </a:solidFill>
              <a:latin typeface="Trebuchet MS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rebuchet MS"/>
              </a:rPr>
              <a:t>Seventh Outline Level</a:t>
            </a:r>
            <a:endParaRPr b="0" lang="en-US" sz="2800" spc="-1" strike="noStrike">
              <a:solidFill>
                <a:srgbClr val="333333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FDADE-0D67-4C6A-9E3C-248AC794FF9D}" type="datetime"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28.07.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400" spc="-1" strike="noStrike">
                <a:solidFill>
                  <a:srgbClr val="bdcf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218DE-01F1-4569-8D2D-3A55493320CC}" type="slidenum">
              <a:rPr b="1" lang="cs-CZ" sz="1400" spc="-1" strike="noStrike">
                <a:solidFill>
                  <a:srgbClr val="bdcf00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Skupina 9"/>
          <p:cNvGrpSpPr/>
          <p:nvPr/>
        </p:nvGrpSpPr>
        <p:grpSpPr>
          <a:xfrm>
            <a:off x="0" y="0"/>
            <a:ext cx="9144000" cy="6996960"/>
            <a:chOff x="0" y="0"/>
            <a:chExt cx="9144000" cy="6996960"/>
          </a:xfrm>
        </p:grpSpPr>
        <p:sp>
          <p:nvSpPr>
            <p:cNvPr id="6" name="Text Box 3"/>
            <p:cNvSpPr/>
            <p:nvPr/>
          </p:nvSpPr>
          <p:spPr>
            <a:xfrm>
              <a:off x="0" y="6409080"/>
              <a:ext cx="914400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Text Box 9"/>
            <p:cNvSpPr/>
            <p:nvPr/>
          </p:nvSpPr>
          <p:spPr>
            <a:xfrm>
              <a:off x="0" y="26640"/>
              <a:ext cx="914400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Text Box 16"/>
            <p:cNvSpPr/>
            <p:nvPr/>
          </p:nvSpPr>
          <p:spPr>
            <a:xfrm>
              <a:off x="8820360" y="0"/>
              <a:ext cx="323640" cy="6996960"/>
            </a:xfrm>
            <a:prstGeom prst="rect">
              <a:avLst/>
            </a:prstGeom>
            <a:solidFill>
              <a:srgbClr val="bdc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Line 18"/>
            <p:cNvSpPr/>
            <p:nvPr/>
          </p:nvSpPr>
          <p:spPr>
            <a:xfrm>
              <a:off x="539640" y="1368360"/>
              <a:ext cx="8353440" cy="0"/>
            </a:xfrm>
            <a:prstGeom prst="line">
              <a:avLst/>
            </a:prstGeom>
            <a:ln w="9360">
              <a:solidFill>
                <a:srgbClr val="bdc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" name="Picture 19" descr=""/>
            <p:cNvPicPr/>
            <p:nvPr/>
          </p:nvPicPr>
          <p:blipFill>
            <a:blip r:embed="rId2"/>
            <a:stretch/>
          </p:blipFill>
          <p:spPr>
            <a:xfrm>
              <a:off x="7286760" y="384120"/>
              <a:ext cx="1308240" cy="66348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967B2-DA0E-4CA0-AE04-77AAFBFA482E}" type="datetime"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28.07.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7CC5D-D330-4DFE-ADE2-DC5145D0A78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Skupina 9"/>
          <p:cNvGrpSpPr/>
          <p:nvPr/>
        </p:nvGrpSpPr>
        <p:grpSpPr>
          <a:xfrm>
            <a:off x="6443640" y="0"/>
            <a:ext cx="2736720" cy="6858000"/>
            <a:chOff x="6443640" y="0"/>
            <a:chExt cx="2736720" cy="6858000"/>
          </a:xfrm>
        </p:grpSpPr>
        <p:pic>
          <p:nvPicPr>
            <p:cNvPr id="89" name="Picture 7" descr=""/>
            <p:cNvPicPr/>
            <p:nvPr/>
          </p:nvPicPr>
          <p:blipFill>
            <a:blip r:embed="rId2"/>
            <a:stretch/>
          </p:blipFill>
          <p:spPr>
            <a:xfrm>
              <a:off x="6443640" y="0"/>
              <a:ext cx="273672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" name="Picture 9" descr=""/>
            <p:cNvPicPr/>
            <p:nvPr/>
          </p:nvPicPr>
          <p:blipFill>
            <a:blip r:embed="rId3"/>
            <a:stretch/>
          </p:blipFill>
          <p:spPr>
            <a:xfrm>
              <a:off x="6868800" y="0"/>
              <a:ext cx="2274840" cy="3716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1" name="Line 17"/>
          <p:cNvSpPr/>
          <p:nvPr/>
        </p:nvSpPr>
        <p:spPr>
          <a:xfrm>
            <a:off x="289080" y="1341360"/>
            <a:ext cx="6804000" cy="0"/>
          </a:xfrm>
          <a:prstGeom prst="line">
            <a:avLst/>
          </a:prstGeom>
          <a:ln w="15840">
            <a:solidFill>
              <a:srgbClr val="bdc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dcf00"/>
                </a:solidFill>
                <a:latin typeface="Trebuchet MS"/>
              </a:rPr>
              <a:t>Click to edit the title text format</a:t>
            </a:r>
            <a:endParaRPr b="1" lang="en-US" sz="3200" spc="-1" strike="noStrike">
              <a:solidFill>
                <a:srgbClr val="bdcf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1000e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rebuchet MS"/>
              </a:rPr>
              <a:t>Click to edit the outline text format</a:t>
            </a:r>
            <a:endParaRPr b="0" lang="en-US" sz="2800" spc="-1" strike="noStrike">
              <a:solidFill>
                <a:srgbClr val="333333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d1000e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333333"/>
              </a:solidFill>
              <a:latin typeface="Trebuchet MS"/>
            </a:endParaRPr>
          </a:p>
          <a:p>
            <a:pPr lvl="2" marL="1143000" indent="-228600">
              <a:spcBef>
                <a:spcPts val="700"/>
              </a:spcBef>
              <a:buClr>
                <a:srgbClr val="d1000e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rebuchet MS"/>
              </a:rPr>
              <a:t>Third Outline Level</a:t>
            </a:r>
            <a:endParaRPr b="0" lang="en-US" sz="2800" spc="-1" strike="noStrike">
              <a:solidFill>
                <a:srgbClr val="333333"/>
              </a:solidFill>
              <a:latin typeface="Trebuchet MS"/>
            </a:endParaRPr>
          </a:p>
          <a:p>
            <a:pPr lvl="3" marL="1600200" indent="-228600">
              <a:spcBef>
                <a:spcPts val="700"/>
              </a:spcBef>
              <a:buClr>
                <a:srgbClr val="d1000e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rebuchet MS"/>
              </a:rPr>
              <a:t>Fourth Outline Level</a:t>
            </a:r>
            <a:endParaRPr b="0" lang="en-US" sz="2800" spc="-1" strike="noStrike">
              <a:solidFill>
                <a:srgbClr val="333333"/>
              </a:solidFill>
              <a:latin typeface="Trebuchet MS"/>
            </a:endParaRPr>
          </a:p>
          <a:p>
            <a:pPr lvl="4" marL="2057400" indent="-228600">
              <a:spcBef>
                <a:spcPts val="700"/>
              </a:spcBef>
              <a:buClr>
                <a:srgbClr val="d1000e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rebuchet MS"/>
              </a:rPr>
              <a:t>Fifth Outline Level</a:t>
            </a:r>
            <a:endParaRPr b="0" lang="en-US" sz="2800" spc="-1" strike="noStrike">
              <a:solidFill>
                <a:srgbClr val="333333"/>
              </a:solidFill>
              <a:latin typeface="Trebuchet MS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rebuchet MS"/>
              </a:rPr>
              <a:t>Sixth Outline Level</a:t>
            </a:r>
            <a:endParaRPr b="0" lang="en-US" sz="2800" spc="-1" strike="noStrike">
              <a:solidFill>
                <a:srgbClr val="333333"/>
              </a:solidFill>
              <a:latin typeface="Trebuchet MS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rebuchet MS"/>
              </a:rPr>
              <a:t>Seventh Outline Level</a:t>
            </a:r>
            <a:endParaRPr b="0" lang="en-US" sz="2800" spc="-1" strike="noStrike">
              <a:solidFill>
                <a:srgbClr val="333333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73D0C-0968-4305-8943-CF3DA3DC20A9}" type="datetime"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28.07.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bdcf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E6B99-EEB3-4F05-8C8B-5E758299FEB8}" type="slidenum">
              <a:rPr b="0" lang="cs-CZ" sz="1400" spc="-1" strike="noStrike">
                <a:solidFill>
                  <a:srgbClr val="bdcf00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68360" y="1742760"/>
            <a:ext cx="59752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000000"/>
                </a:solidFill>
                <a:latin typeface="Trebuchet MS"/>
              </a:rPr>
              <a:t>Koncept „clinical leadership“ a řízení nemocnic v době DRG</a:t>
            </a:r>
            <a:endParaRPr b="1" lang="en-US" sz="4400" spc="-1" strike="noStrike">
              <a:solidFill>
                <a:srgbClr val="bdcf00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371240" y="4437000"/>
            <a:ext cx="5072040" cy="4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bdcf00"/>
                </a:solidFill>
                <a:latin typeface="Trebuchet MS"/>
              </a:rPr>
              <a:t>MUDr. Pavel Hroboň, M.S.</a:t>
            </a:r>
            <a:endParaRPr b="0" lang="en-US" sz="2000" spc="-1" strike="noStrike">
              <a:solidFill>
                <a:srgbClr val="333333"/>
              </a:solidFill>
              <a:latin typeface="Trebuchet MS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1403280" y="5073480"/>
            <a:ext cx="35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6d7681"/>
                </a:solidFill>
                <a:latin typeface="Trebuchet MS"/>
              </a:rPr>
              <a:t>Efektivní nemocnice 2012, Praha, 27.11. 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8E3DA-91E1-41E6-9B10-8A6FD090BE59}" type="slidenum">
              <a:rPr b="1" lang="cs-CZ" sz="1400" spc="-1" strike="noStrike">
                <a:solidFill>
                  <a:srgbClr val="bdcf00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rebuchet MS"/>
              </a:rPr>
              <a:t>Jaký je dopad DRG na vedení </a:t>
            </a:r>
            <a:br>
              <a:rPr sz="3200"/>
            </a:br>
            <a:r>
              <a:rPr b="1" lang="cs-CZ" sz="3200" spc="-1" strike="noStrike">
                <a:solidFill>
                  <a:srgbClr val="000000"/>
                </a:solidFill>
                <a:latin typeface="Trebuchet MS"/>
              </a:rPr>
              <a:t>nemocnic</a:t>
            </a:r>
            <a:endParaRPr b="1" lang="en-US" sz="3200" spc="-1" strike="noStrike">
              <a:solidFill>
                <a:srgbClr val="bdcf00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d1000e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333333"/>
                </a:solidFill>
                <a:latin typeface="Trebuchet MS"/>
              </a:rPr>
              <a:t>Restriktivní úhradová vyhláška téměř neumožňuje navýšení produkce nebo case-mixu</a:t>
            </a:r>
            <a:endParaRPr b="0" lang="en-US" sz="2200" spc="-1" strike="noStrike">
              <a:solidFill>
                <a:srgbClr val="333333"/>
              </a:solidFill>
              <a:latin typeface="Trebuchet MS"/>
            </a:endParaRPr>
          </a:p>
          <a:p>
            <a:pPr marL="343080" indent="-343080">
              <a:spcBef>
                <a:spcPts val="550"/>
              </a:spcBef>
              <a:buClr>
                <a:srgbClr val="d1000e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333333"/>
                </a:solidFill>
                <a:latin typeface="Trebuchet MS"/>
              </a:rPr>
              <a:t>Dopad sbližování základních sazeb je pro jednotlivé nemocnice velmi odlišný</a:t>
            </a:r>
            <a:endParaRPr b="0" lang="en-US" sz="2200" spc="-1" strike="noStrike">
              <a:solidFill>
                <a:srgbClr val="333333"/>
              </a:solidFill>
              <a:latin typeface="Trebuchet MS"/>
            </a:endParaRPr>
          </a:p>
          <a:p>
            <a:pPr marL="343080" indent="-343080">
              <a:spcBef>
                <a:spcPts val="550"/>
              </a:spcBef>
              <a:buClr>
                <a:srgbClr val="d1000e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333333"/>
                </a:solidFill>
                <a:latin typeface="Trebuchet MS"/>
              </a:rPr>
              <a:t>Zaměření na řízení nákladů je nezbytné:</a:t>
            </a:r>
            <a:endParaRPr b="0" lang="en-US" sz="2200" spc="-1" strike="noStrike">
              <a:solidFill>
                <a:srgbClr val="333333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d1000e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33333"/>
                </a:solidFill>
                <a:latin typeface="Trebuchet MS"/>
              </a:rPr>
              <a:t>DRG umožňuje určit ziskové a ztrátové skupiny pacientů a důvody ztrátovosti – vysoké jednotkové ceny nebo bezdůvodně vysokou spotřebu zdrojů (délka hospitalizace, pobytu na sále, na JIP, objem diagnostických vyšetření,…)</a:t>
            </a:r>
            <a:endParaRPr b="0" lang="en-US" sz="1800" spc="-1" strike="noStrike">
              <a:solidFill>
                <a:srgbClr val="333333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d1000e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33333"/>
                </a:solidFill>
                <a:latin typeface="Trebuchet MS"/>
              </a:rPr>
              <a:t>Jednotkové ceny záleží na nákupních cenách zdrojů a využití kapacit</a:t>
            </a:r>
            <a:endParaRPr b="0" lang="en-US" sz="1800" spc="-1" strike="noStrike">
              <a:solidFill>
                <a:srgbClr val="333333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d1000e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33333"/>
                </a:solidFill>
                <a:latin typeface="Trebuchet MS"/>
              </a:rPr>
              <a:t>Spotřeba zdrojů (a do určité míry využití kapacit) záleží na nastavení klinických procesů - </a:t>
            </a:r>
            <a:r>
              <a:rPr b="1" lang="cs-CZ" sz="1800" spc="-1" strike="noStrike">
                <a:solidFill>
                  <a:srgbClr val="333333"/>
                </a:solidFill>
                <a:latin typeface="Trebuchet MS"/>
              </a:rPr>
              <a:t>PRO OVLIVNĚNÍ KLINICKÝCH PROCESŮ POTŘEBUJETE SPOLUPRÁCI A AKTIVITU ZDRAVOTNÍKŮ</a:t>
            </a:r>
            <a:endParaRPr b="0" lang="en-US" sz="1800" spc="-1" strike="noStrike">
              <a:solidFill>
                <a:srgbClr val="333333"/>
              </a:solidFill>
              <a:latin typeface="Trebuchet MS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52C51-25A1-4942-9BE7-45602AF47334}" type="slidenum">
              <a:rPr b="1" lang="cs-CZ" sz="1400" spc="-1" strike="noStrike">
                <a:solidFill>
                  <a:srgbClr val="bdcf00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rebuchet MS"/>
              </a:rPr>
              <a:t>Co je „clinical leadership“ a jak</a:t>
            </a:r>
            <a:br>
              <a:rPr sz="3200"/>
            </a:br>
            <a:r>
              <a:rPr b="1" lang="cs-CZ" sz="3200" spc="-1" strike="noStrike">
                <a:solidFill>
                  <a:srgbClr val="000000"/>
                </a:solidFill>
                <a:latin typeface="Trebuchet MS"/>
              </a:rPr>
              <a:t> je uplatnitelný v ČR</a:t>
            </a:r>
            <a:endParaRPr b="1" lang="en-US" sz="3200" spc="-1" strike="noStrike">
              <a:solidFill>
                <a:srgbClr val="bdcf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51"/>
              </a:spcBef>
              <a:buClr>
                <a:srgbClr val="d1000e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33333"/>
                </a:solidFill>
                <a:latin typeface="Trebuchet MS"/>
              </a:rPr>
              <a:t>Koncept „clinical leadership“, tedy „vedoucího postavení zdravotníků ve změnách“ je založen na nemožnosti prosazení významných změn v poskytování zdravotních služeb bez aktivní účasti a podpory zdravotníků, zejména lékařů</a:t>
            </a:r>
            <a:endParaRPr b="0" lang="en-US" sz="1800" spc="-1" strike="noStrike">
              <a:solidFill>
                <a:srgbClr val="333333"/>
              </a:solidFill>
              <a:latin typeface="Trebuchet MS"/>
            </a:endParaRPr>
          </a:p>
          <a:p>
            <a:pPr marL="325800" indent="-325800">
              <a:spcBef>
                <a:spcPts val="451"/>
              </a:spcBef>
              <a:buClr>
                <a:srgbClr val="d1000e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33333"/>
                </a:solidFill>
                <a:latin typeface="Trebuchet MS"/>
              </a:rPr>
              <a:t>Staví na tradičních hodnotách poskytnout pacientovi tu nejlepší péči dle medicíny založené na důkazech, ale také na ekonomickém a manažerském vzdělání zdravotníků ve vedoucích rolích (přednosta, primář, vedoucí sálů či ambulancí, hlavní a vrchní sestry,..)</a:t>
            </a:r>
            <a:endParaRPr b="0" lang="en-US" sz="1800" spc="-1" strike="noStrike">
              <a:solidFill>
                <a:srgbClr val="333333"/>
              </a:solidFill>
              <a:latin typeface="Trebuchet MS"/>
            </a:endParaRPr>
          </a:p>
          <a:p>
            <a:pPr marL="325800" indent="-325800">
              <a:spcBef>
                <a:spcPts val="451"/>
              </a:spcBef>
              <a:buClr>
                <a:srgbClr val="d1000e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33333"/>
                </a:solidFill>
                <a:latin typeface="Trebuchet MS"/>
              </a:rPr>
              <a:t>Významně mění zažitou dělbu práce mezi management a zdravotníky </a:t>
            </a:r>
            <a:endParaRPr b="0" lang="en-US" sz="1800" spc="-1" strike="noStrike">
              <a:solidFill>
                <a:srgbClr val="333333"/>
              </a:solidFill>
              <a:latin typeface="Trebuchet MS"/>
            </a:endParaRPr>
          </a:p>
          <a:p>
            <a:pPr marL="325800" indent="-325800">
              <a:spcBef>
                <a:spcPts val="451"/>
              </a:spcBef>
              <a:buClr>
                <a:srgbClr val="d1000e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33333"/>
                </a:solidFill>
                <a:latin typeface="Trebuchet MS"/>
              </a:rPr>
              <a:t>Nenechává změny v organizaci klinické práce stranou řízení organizace, ani je neovlivňuje jen nepřímo (například stanovením rozpočtů), ale staví je do středu snah o zefektivnění práce</a:t>
            </a:r>
            <a:endParaRPr b="0" lang="en-US" sz="1800" spc="-1" strike="noStrike">
              <a:solidFill>
                <a:srgbClr val="333333"/>
              </a:solidFill>
              <a:latin typeface="Trebuchet MS"/>
            </a:endParaRPr>
          </a:p>
          <a:p>
            <a:pPr marL="325800" indent="-325800">
              <a:spcBef>
                <a:spcPts val="451"/>
              </a:spcBef>
              <a:buClr>
                <a:srgbClr val="d1000e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33333"/>
                </a:solidFill>
                <a:latin typeface="Trebuchet MS"/>
              </a:rPr>
              <a:t>Je založen na zkušenostech s nedostatečností změn nepodporovaných zdravotníky, ale také na faktu, že opatření, které lze (do určité míry) udělat bez přímé účasti zdravotníků (například snížení nákupních cen, stavební úpravy a další), již byla mnohde realizována a jejich efekt vyčerpán</a:t>
            </a:r>
            <a:endParaRPr b="0" lang="en-US" sz="1800" spc="-1" strike="noStrike">
              <a:solidFill>
                <a:srgbClr val="333333"/>
              </a:solidFill>
              <a:latin typeface="Trebuchet MS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A2E7F-D80C-47A7-A1A7-0AC7B0A5FB17}" type="slidenum">
              <a:rPr b="1" lang="cs-CZ" sz="1400" spc="-1" strike="noStrike">
                <a:solidFill>
                  <a:srgbClr val="bdcf00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rebuchet MS"/>
              </a:rPr>
              <a:t>Co je třeba udělat pro zapojení zdravotníků a „clinical leadership“?</a:t>
            </a:r>
            <a:endParaRPr b="1" lang="en-US" sz="3200" spc="-1" strike="noStrike">
              <a:solidFill>
                <a:srgbClr val="bdcf00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d1000e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33"/>
                </a:solidFill>
                <a:latin typeface="Trebuchet MS"/>
              </a:rPr>
              <a:t>Zjistit, kde je problém v klinických postupech – pomocí srovnání (benchmarkingu) s celostátními průměry nebo – lépe – s typově srovnatelnými nemocnicemi</a:t>
            </a:r>
            <a:endParaRPr b="0" lang="en-US" sz="2400" spc="-1" strike="noStrike">
              <a:solidFill>
                <a:srgbClr val="333333"/>
              </a:solidFill>
              <a:latin typeface="Trebuchet MS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rebuchet MS"/>
            </a:endParaRPr>
          </a:p>
          <a:p>
            <a:pPr marL="312120" indent="-312120">
              <a:spcBef>
                <a:spcPts val="601"/>
              </a:spcBef>
              <a:buClr>
                <a:srgbClr val="d1000e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33"/>
                </a:solidFill>
                <a:latin typeface="Trebuchet MS"/>
              </a:rPr>
              <a:t>Poskytnout srovnání klinikům, motivovat je ke změně a standardizaci postupů a k prevenci komplikací. Jako nástroj podpory a kontroly těchto změn nejlépe poslouží klinické protokoly („clinical pathways“)</a:t>
            </a:r>
            <a:endParaRPr b="0" lang="en-US" sz="2400" spc="-1" strike="noStrike">
              <a:solidFill>
                <a:srgbClr val="333333"/>
              </a:solidFill>
              <a:latin typeface="Trebuchet MS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rebuchet MS"/>
            </a:endParaRPr>
          </a:p>
          <a:p>
            <a:pPr marL="312120" indent="-312120">
              <a:spcBef>
                <a:spcPts val="601"/>
              </a:spcBef>
              <a:buClr>
                <a:srgbClr val="d1000e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33"/>
                </a:solidFill>
                <a:latin typeface="Trebuchet MS"/>
              </a:rPr>
              <a:t>Poskytnout klinikům vzdělání, které jim umožní chápat ekonomický a organizační kontext jejich práce – obecný program typu MBA toto u většiny kliniků nedokáže </a:t>
            </a:r>
            <a:endParaRPr b="0" lang="en-US" sz="2400" spc="-1" strike="noStrike">
              <a:solidFill>
                <a:srgbClr val="333333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5T12:38:32Z</dcterms:created>
  <dc:creator>Simona Vormová</dc:creator>
  <dc:description/>
  <dc:language>en-US</dc:language>
  <cp:lastModifiedBy>Jája a Pája</cp:lastModifiedBy>
  <dcterms:modified xsi:type="dcterms:W3CDTF">2012-11-21T09:12:23Z</dcterms:modified>
  <cp:revision>95</cp:revision>
  <dc:subject/>
  <dc:title>Snímek 1</dc:title>
</cp:coreProperties>
</file>