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22D33-43D4-48A3-AD6C-896E48477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4AD7-DC05-4ABD-B910-D884FBE00A5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9D81F-E781-49D8-8A18-862D157E420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C42FC-6BA1-4B42-B178-42C2B1DAE78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5C098-F24A-4E91-91FD-CA37B52F222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8C1D0-18D1-49BE-89EE-FC82284B5DF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025AC-94F0-472D-8CF8-8148A2739A3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36374-3509-46E0-8945-2F4A3F109C6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DA215-35E5-47AE-9322-3882C3448E6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9BAC1-B093-44C4-AE36-740AE9ADF53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10276-2243-4E58-B9A1-10445C9FD8E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E04076-AC3D-4872-8952-283889326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1223C-F559-4CFF-B6A9-6455C931196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B47109-93DD-47BB-9E39-ABED36BDDC7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C9D423-A4A6-4526-83F2-0A6601A8283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85C6B4-6B0D-465E-99A0-EE8BDD16C39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B50936-A8AB-40D9-94FA-9C9A98EB8C5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FFEFFF-FCC6-4F72-B8FB-CA74F186EC6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D7A8CC-74A5-4AA8-80E1-0E5BA280EC5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6E247C-4C2F-47AD-9868-7A12B00A52A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0E51C8-3FFB-4617-BBA1-A237D5FA2B2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050ED6-6912-4675-8891-235E8081BE5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F0A202-0E53-4C48-9E11-251056DC2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B3AB-CF15-4DE7-B05D-C7A096291AB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BCB2C7-93FD-47F3-91BD-F042FA5BA8A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A2A371-C6A3-41F5-9651-581567A25B5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73D7E1-5375-42A7-BE50-0F2090832A9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F12499-B5FC-473E-BAE7-B469E48345E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77AEA6-5A60-4755-A4BD-9D99F7D9FED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829C75-45DE-459F-ABD7-87AB1BFCBD3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0074DB-6A79-4120-9A46-5E36D1BBD3D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0B210E-C86F-467A-84FB-A6B0B168CE1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C2EE67-8AA8-4451-8567-AFA8B322ED8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549971-1FBA-47EF-AC13-90982807B3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F2B0A-B433-4556-95EF-A1BA05A0784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04BB9B-CDA7-4F36-A1C6-8F086E2D71A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AA520D-3DFD-4402-BE1D-FA350A1895C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B5F215-BDF8-4DE8-B877-8DE8AFC634C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ED9A5-FF13-4C32-B07D-1AFDE7B3560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9CF71-5CBF-4CB0-83B3-F0B1BE75C12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ECDE8-406F-4CC2-811E-42705F8D19A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E10D0-025A-4C5E-9D34-BDE2E0C3043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3E741-C70F-4196-9EF1-B029C5D3325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CA6DA-E975-4E8E-B5B7-7A6BDE27201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2995A-4EF2-4592-A6B0-254A47C1EA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E3D5B-84CB-4805-A272-F27D4773270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C14B4-7846-43B4-AB93-15F04082E51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A9112-1C93-44E8-9548-F826768BD91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B0CD0-2E25-4AA2-87A2-337D4A34A1C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0E525-D718-463A-BF7C-44263AC4240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7B3E8-D3BC-486A-8459-7DC44EE0B06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9FB7B3-C7A7-470D-8F3A-D2E88E944EB0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6E3F3E-E33D-4388-92B7-6B1EB7FC48C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1CA221-405E-48BB-9E3B-8240118EECC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68EE8B-F57C-48A0-953B-54A5D4F38A3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CBDDCA-1A6B-4261-8BBF-7FD418C47B6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6917E-81D6-45D7-8804-7D466C879C4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6B35C0-A544-4581-B450-6893FEF56CE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3F8D25-5C6A-475D-8786-64CDE9EECD7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2AC36B-25E0-4C3D-AD34-E84DDA77874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79E97B-02D0-45AF-84A7-88F9072E5EE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278B2C-7380-4585-83BC-5B86ED3F8CD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D74322-68D0-4016-B2E6-23642805675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8EFC7A-90DE-492E-BFB0-7D5C406CC20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6B4B95-F439-4A31-BA70-47342AAEC0F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201DF6-3A97-4F65-8A12-DF779D858A9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E70C7D-2F6E-4B68-95EF-3FB44D9355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6023E-89E1-4396-B128-2076066B019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C7121B-54DF-4C96-93CF-C58EA95D47E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7EA811-50F6-4957-BFF1-E5E3EDF895C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654194-B015-4FC5-B099-C0DAE68D7C0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BEB7FE-FC54-4332-9B24-5BC45F93E6E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5509A-96D2-4886-910A-285D291CF54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36375-0C07-4CB9-8E58-776D962362E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A09756-8247-4CAD-8813-A803B503868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063512-9534-4008-B5E2-54371ED9F20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C076C1-A097-4311-B9BD-1331A6FD1A2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96D63-53DC-4E98-8444-13D0C5F3BE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40649-E1BD-4A65-867D-695E992CA98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8E68C-66F4-48F5-9FC7-4E5D5E0AA73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4741C-A9F8-49F2-8B8D-715A77CEB79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6DEDC-4A02-4EEC-ADB6-7245C4D6B75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2ABB3-1E5C-4E60-8892-6416B18FDEB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A79CB-AAAE-4F17-BECB-D8A27870804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F7341-3D79-4A97-8A9C-977A89253A7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9BE9F-BF56-40BA-86C7-AA4E2AFD3D8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A4C68-1140-451E-B898-76AF15328A9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74E5C-A3F4-47D2-8F16-BEAFC09E769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F7196-2A5D-46CF-BD8C-DBE027D7F2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4CED9-FF60-4757-A774-844ADB16109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1E43D-0504-49F2-BA69-22CFC172CC9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DC54CD-0AF5-40F5-B3DB-BB04754B832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3D39E3-AEEE-4D9B-86BE-D746AA836B5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B6698E-47A0-4E1E-A5CA-19B62C8D223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9A0404-41F2-4B40-96B3-B558E925C64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939370-5DF2-4CFF-BFD3-5E4FCD3B4BD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EB0AB6-EE96-4C62-9C64-7EB8EEA583D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9FF5EA-8F06-48FE-9770-8DAF73C8B4E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6E8E0F-F2E9-4B75-8E73-DDBF724C2D9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E6BB3C-BB6D-49AA-B204-0F95B12484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4EA2A-B03B-4C7E-B082-293F99DA583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C7A718-B784-4726-86F5-D300C2E657F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7C46E0-155D-4B1A-BB33-6E40BE52FD8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14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15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EE1062-6CEA-4DC1-B074-B6E30065D9D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4FF709-3C94-4E11-8EF6-F5259AE58D5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0BE339-772A-4D9A-BCD6-11D3327D8C7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FF8696-7F4C-4C76-A2BF-157E82D8F933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9B4559-6AA1-4CB4-9076-8C6E1228653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E6191-58C8-4F40-8C02-3B379F919011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018C5D-3896-4F95-A9E4-9C6005B1C76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317A6E-40D4-4A53-B6FC-345C04D608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77C6-1527-4D66-A504-2D1D80CD2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3A108-C8A2-4560-87B3-2299D2D6ADC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EA19E8-1357-4DDC-93D0-2BA5AB88F62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EB0527-5A01-4343-B855-6259E0D991F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B4D03E-377F-4216-A307-C007FA2848E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C4709E-33B0-436B-B77E-2FBB60B85C8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F779CB-8A74-43E8-9D1E-DBEA02A3513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5DBBA-1990-4927-AF06-4A158A44D0F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11385-E57E-4CB3-8880-52968FFAAF1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BEB52-D082-467C-9A3D-AA0F6D0D226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BAA5A-EE02-43F8-8B1D-DE74ADE121F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BB04C-CE1A-405B-AA30-D09D0FC060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2B583-1782-465B-A912-B2B14B53A43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B3895-F001-4923-ACDF-3ED47034E4B1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DA036-4310-42C5-B8CE-A81DD4A39F7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5FF69-A5B0-4C74-8296-B6CE7583915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A5B2B-837A-48E8-8D8C-0D7ECC286CD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343C1-3249-408D-85B7-3CC439D028A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4D843-3D3A-4D26-B220-1F2FB7A8EBD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E50A1-0C75-43E2-9749-E4DB02A7D09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C79693-8353-4C02-ABC1-EEDFB2578376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9EBD06-20FB-44D5-9343-AFDA94F5B8C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88701F-0DF8-4B20-B9F8-E358103101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CA0A8-97BB-44A2-B23A-A7EFAA2BE06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FA14AD-99AB-48F0-AFC6-1A6E6BFB276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7141E2-8001-42B7-8539-DA9AF6ABFB1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85F0CA-4684-48A3-AE5C-D18877EC5C5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30F4C3-9569-4AD7-9239-F64FAC73630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D69A4D-7CC5-49D8-92B6-77EE76986B5B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CC4F67-EE9F-4E1D-A4D9-0721039E56F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49F179-2708-4ED7-AB5E-A06087A4A85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52CC85-0B12-44F1-A49C-2B1F1E1760D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00BCAE-2989-4A64-A993-15DE4693FDC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111A65-7079-476F-BFD7-3ABF79C8B1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98D66-31D4-48B7-8456-796D85AEE97F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C66B29-10F5-4CA7-87D9-AF34BD6728D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F168AB-EE57-45B6-9A84-D0EC30B12CA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4D0D49-B9AE-4700-856C-856B520E961F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8B2B85-76C4-480B-A4F4-3BAD9DA2952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227664-8129-4291-9B19-68F24CF22B9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A24A45-B44A-41D5-824C-6077B8F2F8A7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693511-0EB3-45BB-BE7B-D36D618CAC25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621F2-93BD-4447-A6CD-DBDE1AAB03A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3B32E6-CE1F-49CA-B7B0-B449A73EFB3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89F0F1-4546-457C-BB56-55FFA047D8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A503D-540A-467B-AA47-0EAB7F73B03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072648-F248-4E1D-B394-8210D49EA25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AAFDE-A50B-4BC6-8460-84EB20C31EE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4AF1E-7CC4-41FE-A9DD-CD32A72A8CF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2A9AF-1FD0-4B87-9354-0B94FB175530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EF45D-A7B5-49E1-9E0C-B283F89C1879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ADDB0-54B9-4F87-BDE7-15993BCA532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DC8D2-DB3C-4361-B400-46B731394DE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D00A5-A040-4D3A-A054-897182E3496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BEB43-D201-4E0C-8656-0C16A2EBCCC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06F0B-7FE1-48BB-9F25-74D9230BD4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3302-567B-4B29-B0A3-65F0FD0D44D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0D37D-B9EB-4B8C-BEA3-43DFC46EEAC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1451F-F89D-4B32-8240-B806FB7B2228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DCEF0-9863-4706-9724-BD08E47C45D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E52897A-1254-4CFE-B705-9331D2FBCA5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483511-FCFA-4C57-AD17-99E67F09FC59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F8B452-7A73-47D7-A584-47DC9CDA497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AF459F-0893-4A8A-95DA-1B8ABF5CB1D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235F4B-164E-48E8-9945-6A299ED8067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F441B9-44D0-4156-97B3-8D1215DD381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3A9A22-7985-40B8-9CBF-9B88755AE8D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16C-C481-48A7-AA6C-31AA7C913969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5BCAC3-7D13-4D70-93B5-459501FBBE04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4E1C90-D116-4F3C-B643-6D690875125A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1F4365-878C-44CC-83E4-F7F457341FB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8ABEBA-8DCB-43CC-8C7C-D018C8D7CC35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7BFA15-8B37-400E-BB97-BBC658D56AF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0921B1-DEB9-4769-917C-99FE89D0AE98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D8ADE7-82D1-4AD4-950C-FCBF0056D67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6A6C7E-A1C8-48B9-AA7D-F44918C2859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C37EEE-D7B4-41D6-9A84-A9732D6223D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3E6A7D-CCC8-4491-8E7B-88C4772FF4E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F46C-7570-48CF-95DE-36FE425D5D3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36F7F9-A154-4FB5-8C1B-C67DC388339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1DDD63-D7A8-4894-A0A5-CEAAB0F58AC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CC8A58-05EB-4C48-9F77-82F70128A3D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0A6220-911E-45DD-8095-03245D039D2D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9AA308-6D47-41B3-9B57-E6DFE697768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39652E-8A01-4DCB-9BA7-E82409C6847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43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44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7E4026-FA65-4775-80CD-8A1D0D58EE2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E66E3-AF0B-4F70-877C-4F3DABA2BEB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C8510-D52E-46D3-95C3-427D0B115C4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2B721-A646-4ADE-A399-CCF844332A1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BF22-32DA-49FF-BF79-EE58385286C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9A4C7-8CEF-417E-BF42-0798C32004E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512B3-89BD-443B-B589-E6537D5ACB9D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B5763-DCD1-46AA-80C4-F7BC5D8E5C9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4890F-4873-4A1D-A800-00449FA0A47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00FC7-B9C8-4E38-B517-EC067B4485A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E9061-0E7E-4A4E-B45F-684C9CC71C6C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8D17F-398F-4647-B446-5BF60D0BEED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D274C-B77D-4002-8D62-BF38714D0D7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90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91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30403D-EC05-4062-8686-B77D194F724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968B-032A-45F4-BC02-F13B03CFFF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C0FB-4175-4F58-96B1-F61FABC1F7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BBE-A057-45C6-B3F3-0A84020165F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777-67FA-4D6D-A025-92AF056C2C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C299-6B39-4C9B-B6E8-3D343427DD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215-C26F-4525-B0BF-EB7A03361F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2967-62E2-448A-B6DE-CF30F90E48F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D78-A57E-4EA5-B4F2-E40A81F3D8B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6512-760A-4F7C-BDDC-7EE99131C4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6E5E7-7BAC-4CD1-9139-226E51C604F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12D5F-919F-4160-8EE1-D350B65C74F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C613A-A8AB-4207-BBC4-DFD15DDEC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B4B1D-3D84-49CC-9316-6CD39CD487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27C36-A2C3-42B4-9DCF-EA0A851027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E3B9C-EAC4-4869-8275-83CBF5DBB6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C1D25-7F2B-4DD4-905A-300D3750B6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2D4C4-6990-40A4-AA0D-B38117DCA2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74D71-2290-4F36-AFA2-44DEC5BCC49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05942-5724-49A1-9B49-ADBA21A9DEE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2FB61-11D8-4248-9C1A-65386B975D9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7602D-C487-4969-89A5-7E13E8C5315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F2A71-862E-43F2-9971-46EBB3A7431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9887D-8B25-4A2A-911D-53F3BF443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87AF5-9024-40FF-ADA2-41346E76E3A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7D9C6-4AE1-4D4F-ABCB-D342874FD03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574E3-049E-4BDC-B16E-301738D56F6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34E21-3550-4347-8E92-FBBF0DA8926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278ED-37AF-4246-9ACC-38F616D570F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76F9A-5238-400B-AA91-9B8FBB6C254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C252F-6E80-4B95-8B30-2C61FF10D27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B9E15-EEAE-43B1-8F4A-1B8A6F193D7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47E37-8BC8-48E6-90F4-00BB9606E7A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91404-DB80-4631-A814-24C0B0A801E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354CB-5E4F-4D2A-AD63-FA5DA9324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9523F-E9B5-45DF-B06C-7181132E8E1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04B6F-ED75-4728-A150-0A8B9EA030F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6738-FFF0-4C08-87FF-3696F8D58F0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37B4-AEC5-48CE-8D30-EABB98BA459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C16E-7804-4A2B-90CE-ED569BE5FDB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7E41-CCFE-48AB-8A84-985D6888E6E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59E9-23BA-4646-9C41-02F83ABF3B7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2F01-3A01-4ADE-92BB-080434B08D0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248D-493B-483E-89D2-1F1B59BB2B4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BD01-706B-4CC2-9D0B-F6EBD1DC556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5D72-EC42-467C-BBAE-6F02A11308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2E44-D7D4-48B4-8D2F-AB35B1DE639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6D4C-1EB6-4489-A431-A1FB39C681A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D08CE-0452-455D-BC84-4344808C1AD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1236-4557-4D1C-90F6-EEB64D4DFF3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CC45D6-9584-4926-9B76-8C0C5B7FA03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4B569D-2F07-4CCA-951F-1A419706AF1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E0A5AD-3DF4-4056-BC3E-0F1E8B09D71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A17B44-0824-4A03-B96F-54CEE940102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71B5FF-70F8-4CC0-88DE-80DD9700CC0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EBF939-5283-453A-84C2-54A390BF6FF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575B92-EE80-44AD-ACAC-9A0D8E105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C5055-A371-4F11-B26E-46A99A62790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641F83-7E51-4995-94AE-EFF2BB77E6B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BA8931-1F85-4FC6-9897-C424D181767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FBFBA7-C316-4469-BFE7-D3BCCA6DD9E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4BE05E-0C76-4B98-A0F1-2BAD37A3996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52B42E-0B4C-4074-874D-7B48E5FDD7A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20EB6-DC89-4845-9554-C01A23F9D81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FC590D-AB40-4E8C-BD37-B66C7EF4715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BA9222-7525-409F-9B5A-4CA53988E4F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C58EB-BE8F-4043-9DD9-A1DFE83DB4A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D19753-05D0-4B25-8CF9-7535291D2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91F8-6260-4A73-9DE9-32FD4A3D1E3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233360" y="-360"/>
            <a:ext cx="679320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58FFD-78B3-4C9D-8B26-DB5BDE9308A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4F47C-F391-421A-AF07-462E25ED91C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B36C5-A313-4E49-82F9-5C50BD43781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377DC-8AB3-4A39-9195-BBFB1A6DB1C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233360" y="3963600"/>
            <a:ext cx="679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5B2B0-1455-4F5D-97F3-481122997C4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4200" y="16002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23336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714200" y="3963600"/>
            <a:ext cx="33148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99F8AF-50C3-402F-AE44-AB57EFE5E6B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5301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826960" y="16002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2333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5301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826960" y="3963600"/>
            <a:ext cx="218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1F24CB-AA9A-4BE1-966C-FC2D2F6D620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F8E0D-21A9-4C3A-AE0D-2C29893EF80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AD3EC-06E1-47D7-A55E-0B3C44ABC79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FDE9D-15DE-4A71-B4A6-12BB67C42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1220760" y="6245280"/>
            <a:ext cx="13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29163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206760" y="6245280"/>
            <a:ext cx="1833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3FBD-0957-4D6E-A9BC-5EED68915B88}" type="slidenum">
              <a: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6"/>
          <p:cNvSpPr/>
          <p:nvPr/>
        </p:nvSpPr>
        <p:spPr>
          <a:xfrm>
            <a:off x="1220760" y="6245280"/>
            <a:ext cx="13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29163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sldNum" idx="10"/>
          </p:nvPr>
        </p:nvSpPr>
        <p:spPr>
          <a:xfrm>
            <a:off x="6206760" y="6245280"/>
            <a:ext cx="1833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5290-8987-49EC-B378-03E00C1CC971}" type="slidenum">
              <a: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2" descr="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3" descr="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6"/>
          <p:cNvSpPr/>
          <p:nvPr/>
        </p:nvSpPr>
        <p:spPr>
          <a:xfrm>
            <a:off x="1220760" y="6245280"/>
            <a:ext cx="13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29163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1"/>
          </p:nvPr>
        </p:nvSpPr>
        <p:spPr>
          <a:xfrm>
            <a:off x="6206760" y="6245280"/>
            <a:ext cx="1833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93A27-925F-4D86-91F7-599B871B6170}" type="slidenum">
              <a: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" descr="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6"/>
          <p:cNvSpPr/>
          <p:nvPr/>
        </p:nvSpPr>
        <p:spPr>
          <a:xfrm>
            <a:off x="1220760" y="6245280"/>
            <a:ext cx="13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7"/>
          <p:cNvSpPr/>
          <p:nvPr/>
        </p:nvSpPr>
        <p:spPr>
          <a:xfrm>
            <a:off x="29163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2"/>
          </p:nvPr>
        </p:nvSpPr>
        <p:spPr>
          <a:xfrm>
            <a:off x="6206760" y="6245280"/>
            <a:ext cx="1833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3951-EE72-47DF-8931-CBFCBC5A6228}" type="slidenum">
              <a: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" descr="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" descr="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6"/>
          <p:cNvSpPr/>
          <p:nvPr/>
        </p:nvSpPr>
        <p:spPr>
          <a:xfrm>
            <a:off x="1220760" y="6245280"/>
            <a:ext cx="13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7"/>
          <p:cNvSpPr/>
          <p:nvPr/>
        </p:nvSpPr>
        <p:spPr>
          <a:xfrm>
            <a:off x="29163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sldNum" idx="13"/>
          </p:nvPr>
        </p:nvSpPr>
        <p:spPr>
          <a:xfrm>
            <a:off x="6206760" y="6245280"/>
            <a:ext cx="1833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B8D9-E0DD-44EF-B654-76F8DAA5DA7C}" type="slidenum">
              <a: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1233360" y="6110280"/>
            <a:ext cx="1371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2914560" y="6102360"/>
            <a:ext cx="28958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8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9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0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11" descr="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sldNum" idx="14"/>
          </p:nvPr>
        </p:nvSpPr>
        <p:spPr>
          <a:xfrm>
            <a:off x="6206760" y="6109920"/>
            <a:ext cx="1833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GillSan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03CC0-37C5-4AF0-836A-4DD6A9AB53E8}" type="slidenum">
              <a:rPr b="0" lang="cs-CZ" sz="2400" spc="-1" strike="noStrike">
                <a:solidFill>
                  <a:srgbClr val="000000"/>
                </a:solidFill>
                <a:latin typeface="GillSans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1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1233360" y="6110280"/>
            <a:ext cx="1371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2914560" y="6102360"/>
            <a:ext cx="28958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0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1" descr="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sldNum" idx="15"/>
          </p:nvPr>
        </p:nvSpPr>
        <p:spPr>
          <a:xfrm>
            <a:off x="6206760" y="6109920"/>
            <a:ext cx="1833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GillSan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4559-74B6-41F6-B7A1-C9709E9E4F0C}" type="slidenum">
              <a:rPr b="0" lang="cs-CZ" sz="2400" spc="-1" strike="noStrike">
                <a:solidFill>
                  <a:srgbClr val="000000"/>
                </a:solidFill>
                <a:latin typeface="GillSans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1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1233360" y="6110280"/>
            <a:ext cx="1371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2914560" y="6102360"/>
            <a:ext cx="28958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7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8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9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0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11" descr="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sldNum" idx="16"/>
          </p:nvPr>
        </p:nvSpPr>
        <p:spPr>
          <a:xfrm>
            <a:off x="6206760" y="6109920"/>
            <a:ext cx="1833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GillSan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1D37-B11A-4B73-BB84-5B5111C8623A}" type="slidenum">
              <a:rPr b="0" lang="cs-CZ" sz="2400" spc="-1" strike="noStrike">
                <a:solidFill>
                  <a:srgbClr val="000000"/>
                </a:solidFill>
                <a:latin typeface="GillSans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1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4"/>
          <p:cNvSpPr/>
          <p:nvPr/>
        </p:nvSpPr>
        <p:spPr>
          <a:xfrm>
            <a:off x="1233360" y="6110280"/>
            <a:ext cx="1371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5"/>
          <p:cNvSpPr/>
          <p:nvPr/>
        </p:nvSpPr>
        <p:spPr>
          <a:xfrm>
            <a:off x="2914560" y="6102360"/>
            <a:ext cx="28958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8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9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0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11" descr="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sldNum" idx="17"/>
          </p:nvPr>
        </p:nvSpPr>
        <p:spPr>
          <a:xfrm>
            <a:off x="6206760" y="6109920"/>
            <a:ext cx="1833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GillSan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DA95-BF60-4E7A-A85E-03EA9D83005A}" type="slidenum">
              <a:rPr b="0" lang="cs-CZ" sz="2400" spc="-1" strike="noStrike">
                <a:solidFill>
                  <a:srgbClr val="000000"/>
                </a:solidFill>
                <a:latin typeface="GillSans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1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4"/>
          <p:cNvSpPr/>
          <p:nvPr/>
        </p:nvSpPr>
        <p:spPr>
          <a:xfrm>
            <a:off x="1233360" y="6110280"/>
            <a:ext cx="1371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5"/>
          <p:cNvSpPr/>
          <p:nvPr/>
        </p:nvSpPr>
        <p:spPr>
          <a:xfrm>
            <a:off x="2914560" y="6102360"/>
            <a:ext cx="28958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7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8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9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10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1" descr="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sldNum" idx="18"/>
          </p:nvPr>
        </p:nvSpPr>
        <p:spPr>
          <a:xfrm>
            <a:off x="6206760" y="6109920"/>
            <a:ext cx="1833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GillSan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8390-24D2-46E4-941D-62A0682A75DF}" type="slidenum">
              <a:rPr b="0" lang="cs-CZ" sz="2400" spc="-1" strike="noStrike">
                <a:solidFill>
                  <a:srgbClr val="000000"/>
                </a:solidFill>
                <a:latin typeface="GillSans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1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4"/>
          <p:cNvSpPr/>
          <p:nvPr/>
        </p:nvSpPr>
        <p:spPr>
          <a:xfrm>
            <a:off x="1233360" y="6110280"/>
            <a:ext cx="1371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5"/>
          <p:cNvSpPr/>
          <p:nvPr/>
        </p:nvSpPr>
        <p:spPr>
          <a:xfrm>
            <a:off x="2914560" y="6102360"/>
            <a:ext cx="28958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7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8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9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10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11" descr="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sldNum" idx="19"/>
          </p:nvPr>
        </p:nvSpPr>
        <p:spPr>
          <a:xfrm>
            <a:off x="6206760" y="6109920"/>
            <a:ext cx="1833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GillSan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B51B-B9E2-4899-BAED-770471B13DEA}" type="slidenum">
              <a:rPr b="0" lang="cs-CZ" sz="2400" spc="-1" strike="noStrike">
                <a:solidFill>
                  <a:srgbClr val="000000"/>
                </a:solidFill>
                <a:latin typeface="GillSans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33360" y="6110280"/>
            <a:ext cx="1371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914560" y="6102360"/>
            <a:ext cx="28958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206760" y="6109920"/>
            <a:ext cx="1833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3400" spc="-1" strike="noStrike">
                <a:solidFill>
                  <a:srgbClr val="000000"/>
                </a:solidFill>
                <a:latin typeface="Garamond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0FD8-185B-49DB-B9CE-170F2893F407}" type="slidenum">
              <a:rPr b="0" lang="cs-CZ" sz="3400" spc="-1" strike="noStrike">
                <a:solidFill>
                  <a:srgbClr val="000000"/>
                </a:solidFill>
                <a:latin typeface="Garamond"/>
                <a:ea typeface="Lucida Sans Unicode"/>
              </a:rPr>
              <a:t>&lt;number&gt;</a:t>
            </a:fld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1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4"/>
          <p:cNvSpPr/>
          <p:nvPr/>
        </p:nvSpPr>
        <p:spPr>
          <a:xfrm>
            <a:off x="1233360" y="6110280"/>
            <a:ext cx="1371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5"/>
          <p:cNvSpPr/>
          <p:nvPr/>
        </p:nvSpPr>
        <p:spPr>
          <a:xfrm>
            <a:off x="2914560" y="6102360"/>
            <a:ext cx="28958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7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8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9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0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11" descr="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sldNum" idx="20"/>
          </p:nvPr>
        </p:nvSpPr>
        <p:spPr>
          <a:xfrm>
            <a:off x="6206760" y="6109920"/>
            <a:ext cx="1833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GillSan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C27E-123B-4432-8F3F-A8C6C3ED5332}" type="slidenum">
              <a:rPr b="0" lang="cs-CZ" sz="2400" spc="-1" strike="noStrike">
                <a:solidFill>
                  <a:srgbClr val="000000"/>
                </a:solidFill>
                <a:latin typeface="GillSans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1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4"/>
          <p:cNvSpPr/>
          <p:nvPr/>
        </p:nvSpPr>
        <p:spPr>
          <a:xfrm>
            <a:off x="1233360" y="6110280"/>
            <a:ext cx="1371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5"/>
          <p:cNvSpPr/>
          <p:nvPr/>
        </p:nvSpPr>
        <p:spPr>
          <a:xfrm>
            <a:off x="2914560" y="6102360"/>
            <a:ext cx="28958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7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8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9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0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Picture 11" descr="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sldNum" idx="21"/>
          </p:nvPr>
        </p:nvSpPr>
        <p:spPr>
          <a:xfrm>
            <a:off x="6206760" y="6109920"/>
            <a:ext cx="1833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GillSan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9224-07E3-47BF-BF13-6D8AF6150AB7}" type="slidenum">
              <a:rPr b="0" lang="cs-CZ" sz="2400" spc="-1" strike="noStrike">
                <a:solidFill>
                  <a:srgbClr val="000000"/>
                </a:solidFill>
                <a:latin typeface="GillSans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1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4"/>
          <p:cNvSpPr/>
          <p:nvPr/>
        </p:nvSpPr>
        <p:spPr>
          <a:xfrm>
            <a:off x="1233360" y="6110280"/>
            <a:ext cx="1371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5"/>
          <p:cNvSpPr/>
          <p:nvPr/>
        </p:nvSpPr>
        <p:spPr>
          <a:xfrm>
            <a:off x="2914560" y="6102360"/>
            <a:ext cx="28958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7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8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9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10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Picture 11" descr="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 type="sldNum" idx="22"/>
          </p:nvPr>
        </p:nvSpPr>
        <p:spPr>
          <a:xfrm>
            <a:off x="6206760" y="6109920"/>
            <a:ext cx="1833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GillSan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6ABE-CCF9-4CF3-A983-928A1506491F}" type="slidenum">
              <a:rPr b="0" lang="cs-CZ" sz="2400" spc="-1" strike="noStrike">
                <a:solidFill>
                  <a:srgbClr val="000000"/>
                </a:solidFill>
                <a:latin typeface="GillSans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1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 Box 4"/>
          <p:cNvSpPr/>
          <p:nvPr/>
        </p:nvSpPr>
        <p:spPr>
          <a:xfrm>
            <a:off x="1233360" y="6110280"/>
            <a:ext cx="1371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5"/>
          <p:cNvSpPr/>
          <p:nvPr/>
        </p:nvSpPr>
        <p:spPr>
          <a:xfrm>
            <a:off x="2914560" y="6102360"/>
            <a:ext cx="28958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7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8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9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0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Picture 11" descr="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sldNum" idx="23"/>
          </p:nvPr>
        </p:nvSpPr>
        <p:spPr>
          <a:xfrm>
            <a:off x="6206760" y="6109920"/>
            <a:ext cx="1833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GillSan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BE52-FF07-4910-8D7E-85D894E435F6}" type="slidenum">
              <a:rPr b="0" lang="cs-CZ" sz="2400" spc="-1" strike="noStrike">
                <a:solidFill>
                  <a:srgbClr val="000000"/>
                </a:solidFill>
                <a:latin typeface="GillSans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1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4"/>
          <p:cNvSpPr/>
          <p:nvPr/>
        </p:nvSpPr>
        <p:spPr>
          <a:xfrm>
            <a:off x="1233360" y="6110280"/>
            <a:ext cx="13716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Text Box 5"/>
          <p:cNvSpPr/>
          <p:nvPr/>
        </p:nvSpPr>
        <p:spPr>
          <a:xfrm>
            <a:off x="2914560" y="6102360"/>
            <a:ext cx="28958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7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8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9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10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2" name="Picture 11" descr="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 type="sldNum" idx="24"/>
          </p:nvPr>
        </p:nvSpPr>
        <p:spPr>
          <a:xfrm>
            <a:off x="6206760" y="6109920"/>
            <a:ext cx="1833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GillSans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4EE5-F832-45F8-8AEB-1328E3DFCA29}" type="slidenum">
              <a:rPr b="0" lang="cs-CZ" sz="2400" spc="-1" strike="noStrike">
                <a:solidFill>
                  <a:srgbClr val="000000"/>
                </a:solidFill>
                <a:latin typeface="GillSans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220760" y="6245280"/>
            <a:ext cx="13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9163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3"/>
          </p:nvPr>
        </p:nvSpPr>
        <p:spPr>
          <a:xfrm>
            <a:off x="6206760" y="6245280"/>
            <a:ext cx="1833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045F-5813-4AC4-B9B1-5DF9B311D7AA}" type="slidenum">
              <a: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1220760" y="6245280"/>
            <a:ext cx="13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9163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4"/>
          </p:nvPr>
        </p:nvSpPr>
        <p:spPr>
          <a:xfrm>
            <a:off x="6206760" y="6245280"/>
            <a:ext cx="1833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5DCE8-4DB4-4B76-A42B-5C6081721FC8}" type="slidenum">
              <a: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1220760" y="6245280"/>
            <a:ext cx="13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29163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Num" idx="5"/>
          </p:nvPr>
        </p:nvSpPr>
        <p:spPr>
          <a:xfrm>
            <a:off x="6206760" y="6245280"/>
            <a:ext cx="1833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1C49-6473-4AF9-B9DC-2B3E375E1EBE}" type="slidenum">
              <a: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1220760" y="6245280"/>
            <a:ext cx="13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29163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6"/>
          </p:nvPr>
        </p:nvSpPr>
        <p:spPr>
          <a:xfrm>
            <a:off x="6206760" y="6245280"/>
            <a:ext cx="1833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DA8B-3850-4F2E-80A4-D601B95F0F95}" type="slidenum">
              <a: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6"/>
          <p:cNvSpPr/>
          <p:nvPr/>
        </p:nvSpPr>
        <p:spPr>
          <a:xfrm>
            <a:off x="1220760" y="6245280"/>
            <a:ext cx="13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29163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7"/>
          </p:nvPr>
        </p:nvSpPr>
        <p:spPr>
          <a:xfrm>
            <a:off x="6206760" y="6245280"/>
            <a:ext cx="1833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0817-A739-4DB3-B055-A2F8F0A15125}" type="slidenum">
              <a: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" descr="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3" descr="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6"/>
          <p:cNvSpPr/>
          <p:nvPr/>
        </p:nvSpPr>
        <p:spPr>
          <a:xfrm>
            <a:off x="1220760" y="6245280"/>
            <a:ext cx="13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29163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8"/>
          </p:nvPr>
        </p:nvSpPr>
        <p:spPr>
          <a:xfrm>
            <a:off x="6206760" y="6245280"/>
            <a:ext cx="1833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45B38-0268-4B0E-BE31-E9BF547289E4}" type="slidenum">
              <a: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2" descr="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6"/>
          <p:cNvSpPr/>
          <p:nvPr/>
        </p:nvSpPr>
        <p:spPr>
          <a:xfrm>
            <a:off x="1220760" y="6245280"/>
            <a:ext cx="13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291636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9"/>
          </p:nvPr>
        </p:nvSpPr>
        <p:spPr>
          <a:xfrm>
            <a:off x="6206760" y="6245280"/>
            <a:ext cx="1833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8578-AF18-4FBD-90D4-FF856B62D108}" type="slidenum">
              <a:rPr b="0" lang="cs-CZ" sz="1200" spc="-1" strike="noStrike">
                <a:solidFill>
                  <a:srgbClr val="ffffff"/>
                </a:solidFill>
                <a:latin typeface="GillSans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/>
          </p:nvPr>
        </p:nvSpPr>
        <p:spPr>
          <a:xfrm>
            <a:off x="1233360" y="3284640"/>
            <a:ext cx="67932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onstantia"/>
              </a:rPr>
              <a:t>Reforma zdravotnictví</a:t>
            </a:r>
            <a:endParaRPr b="1" lang="en-US" sz="3600" spc="-1" strike="noStrike">
              <a:solidFill>
                <a:srgbClr val="003d61"/>
              </a:solidFill>
              <a:latin typeface="GillSans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003d61"/>
              </a:solidFill>
              <a:latin typeface="Gill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nstantia"/>
              </a:rPr>
              <a:t>Martin Plíšek</a:t>
            </a:r>
            <a:endParaRPr b="1" lang="en-US" sz="2800" spc="-1" strike="noStrike">
              <a:solidFill>
                <a:srgbClr val="003d61"/>
              </a:solidFill>
              <a:latin typeface="Gill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nstantia"/>
              </a:rPr>
              <a:t>náměstek ministra zdravotnictví</a:t>
            </a:r>
            <a:endParaRPr b="1" lang="en-US" sz="2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nstantia"/>
              </a:rPr>
              <a:t>Zákon o regulaci reklamy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Constantia"/>
              </a:rPr>
              <a:t>	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Constantia"/>
              </a:rPr>
              <a:t>Návrh zákona schválila vláda 26.6. 2012: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Snížení prostoru pro korupci a neetická jednání ve zdravotnictví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Zakazují se soutěže, loterie a hry, kterými firmy ovlivňují předepisování léků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Sankce až do výše 15 milionů korun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slow">
    <p:push dir="u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nstantia"/>
              </a:rPr>
              <a:t>Budoucí výzvy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Constantia"/>
              </a:rPr>
              <a:t>	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5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Constantia"/>
              </a:rPr>
              <a:t>Zákon o zdravotních pojišťovnách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Constantia"/>
              </a:rPr>
              <a:t>Zákon o zdravotních prostředcích 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Constantia"/>
              </a:rPr>
              <a:t>	</a:t>
            </a:r>
            <a:r>
              <a:rPr b="1" lang="cs-CZ" sz="2400" spc="-1" strike="noStrike">
                <a:solidFill>
                  <a:srgbClr val="003d61"/>
                </a:solidFill>
                <a:latin typeface="Constantia"/>
              </a:rPr>
              <a:t>(předpokládaná účinnost od 1.1. 2014)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Constantia"/>
              </a:rPr>
              <a:t>Restrukturalizace lůžkové péče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Constantia"/>
              </a:rPr>
              <a:t>Transformace psychiatrické péče v ČR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Constantia"/>
              </a:rPr>
              <a:t>Sloučení Vojenské ZP a ZP Ministerstva vnitra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slow">
    <p:push dir="u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000"/>
                            </p:stCondLst>
                            <p:childTnLst>
                              <p:par>
                                <p:cTn id="3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4000"/>
                            </p:stCondLst>
                            <p:childTnLst>
                              <p:par>
                                <p:cTn id="3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/>
          </p:nvPr>
        </p:nvSpPr>
        <p:spPr>
          <a:xfrm>
            <a:off x="108000" y="2133720"/>
            <a:ext cx="89280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d61"/>
              </a:solidFill>
              <a:latin typeface="GillSans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d61"/>
              </a:solidFill>
              <a:latin typeface="GillSans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3d61"/>
              </a:solidFill>
              <a:latin typeface="GillSans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fffff"/>
                </a:solidFill>
                <a:latin typeface="Constantia"/>
              </a:rPr>
              <a:t>Děkuji za pozornost</a:t>
            </a:r>
            <a:endParaRPr b="1" lang="en-US" sz="36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nstantia"/>
              </a:rPr>
              <a:t>Schválené klíčové novely a zákony 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78920" y="1241280"/>
            <a:ext cx="8496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Constantia"/>
              </a:rPr>
              <a:t>	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Constantia"/>
              </a:rPr>
              <a:t>Zákon o zdravotních službách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Constantia"/>
              </a:rPr>
              <a:t>Zákon o specifických zdravotních službách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Constantia"/>
              </a:rPr>
              <a:t>Zákon o zdravotnické záchranné službě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Constantia"/>
              </a:rPr>
              <a:t>Novela zákona o veřejném zdravotním pojištění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Constantia"/>
              </a:rPr>
              <a:t>Zákon o léčivech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Constantia"/>
              </a:rPr>
              <a:t>Zákon o univerzitních nemocnicích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Constantia"/>
              </a:rPr>
              <a:t>Zákon o regulaci reklamy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nstantia"/>
              </a:rPr>
              <a:t>Zákon o zdravotních službách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Constantia"/>
              </a:rPr>
              <a:t>	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Constantia"/>
              </a:rPr>
              <a:t>Platný od 1.4. 2012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Constantia"/>
              </a:rPr>
              <a:t>Upravuje práva pacienta a staví jej do rovnocenného postavení s poskytovatelem zdravotní péče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Informovaný souhlas pacienta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Informovanost pacienta a třetích osob o zdravotním stavu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Zvláštní úprava stížností pacientů, zavedeny sankce pro poskytovatele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Přítomnost a souhlas zákonného zástupce (u nezletilých)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slow">
    <p:push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nstantia"/>
              </a:rPr>
              <a:t>Zákon o zdravotních službách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Constantia"/>
              </a:rPr>
              <a:t>	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Právo na volbu praktického lékaře či zdravotnického zařízení (nikoli však konkrétního lékaře)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Posílení práv postižených pacientů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Právo na konzultaci s dalším lékařem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Právo ne/souhlasit s péčí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Předem vyslovené přání pacienta (living will)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slow">
    <p:push dir="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0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nstantia"/>
              </a:rPr>
              <a:t>Zákon o specifických zdravotních službách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Constantia"/>
              </a:rPr>
              <a:t>	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Constantia"/>
              </a:rPr>
              <a:t>Platný od 1.4. 2012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Definuje zdravotní služby poskytované za zvláštních podmínek (tj. asistovaná reprodukce, sterilizace a kastrace, psychochirurgické výkony, změna pohlaví u transexuálních osob, genetická vyšetření, klonování a odběry krve)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Ověřování nových poznatků použitím metod dosud neuvedených v klinické praxi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Ochranné léčení uložené soudem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slow">
    <p:push dir="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nstantia"/>
              </a:rPr>
              <a:t>Zákon o zdravotnické záchranné službě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Constantia"/>
              </a:rPr>
              <a:t>	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Constantia"/>
              </a:rPr>
              <a:t>Platný od 1.4. 2012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Určuje jednotné podmínky pro poskytování zdravotnické záchranné služby s cílem zajistit její dostupnost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-34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Nově jsou určeny povinnosti ZZS a časový limit dojezdů tak, aby nebyl v praxi v odlehlejších částech ČR porušován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57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slow">
    <p:push dir="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Constantia"/>
              </a:rPr>
              <a:t>Novela zákona o veřejném zdravotním pojiště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78920" y="1125360"/>
            <a:ext cx="8496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Constantia"/>
              </a:rPr>
              <a:t>	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848520" indent="-339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Omezení pohybu pojištěnců mezi pojišťovnami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48520" indent="-339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Definice nároku pojištěnce (místní a časová dostupnost, defacto určení standardu)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48520" indent="-339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Legální možnost připlacení za ekonomicky náročnější variantu péče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48520" indent="-339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Elektronická aukce na úhrady léčivých přípravků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48520" indent="-339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Přesun úhrady některých druhů očkování na zdravotní pojišťovny (př. očkování proti rakovině děložního čípku)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48520" indent="-339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Vyřazení volně prodejných léků z úhrady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48520" indent="-339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Vyloučení odkladného účinku proti rozhodnutí SÚKLu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48520" indent="-339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Zvýšení poplatku za den hospitalizace na 100 Kč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4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slow">
    <p:push dir="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7000"/>
                            </p:stCondLst>
                            <p:childTnLst>
                              <p:par>
                                <p:cTn id="2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8000"/>
                            </p:stCondLst>
                            <p:childTnLst>
                              <p:par>
                                <p:cTn id="2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nstantia"/>
              </a:rPr>
              <a:t>Zákon o léčivech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Constantia"/>
              </a:rPr>
              <a:t>	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48520" indent="-33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Constantia"/>
              </a:rPr>
              <a:t>Koncem srpna 2012 schválen vládou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4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Kultivuje prostředí lékové politiky v ČR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Zabraňuje zneužívání léčiv výrobci a uživateli drog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Zvyšuje informovanost pacientů o cenách a úhradách léků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Snaží se vypořádat s problémem reexportu léků do zahraničí (paragraf upravující reexporty byl u návrhu zákona vyškrtnutý, předpokládáme jeho navrácení v průběhu legislativního procesu)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4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4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3" marL="158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slow">
    <p:push dir="u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1233360" y="-360"/>
            <a:ext cx="67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Constantia"/>
              </a:rPr>
              <a:t>Zákon o univerzitních nemocnicích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Constantia"/>
              </a:rPr>
              <a:t>	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39880" indent="-335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Constantia"/>
              </a:rPr>
              <a:t>Návrh věcného záměru zákona stanovuje:</a:t>
            </a: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39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proměnu fakultních nemocnic, které jsou příspěvkovými organizacemi zřízenými MZČR, na univerzitní nemocnice s novou právní formou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vytvoření lepších podmínek pro spolupráci univerzitní nemocnice a vysoké školy, a tím také pro zlepšení poskytování zdravotních služeb, uskutečňování výuky, vědy a výzkumu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19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Constantia"/>
              </a:rPr>
              <a:t>přínosem je ukončení přímé vazby na státní rozpočet v podobě příspěvku ze státního rozpočtu</a:t>
            </a:r>
            <a:r>
              <a:rPr b="1" lang="cs-CZ" sz="2400" spc="-1" strike="noStrike">
                <a:solidFill>
                  <a:srgbClr val="003d61"/>
                </a:solidFill>
                <a:latin typeface="Constantia"/>
              </a:rPr>
              <a:t> 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39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1" marL="839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  <a:p>
            <a:pPr lvl="3" marL="1568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4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slow">
    <p:push dir="u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06:12:31Z</dcterms:created>
  <dc:creator>Druss</dc:creator>
  <dc:description/>
  <dc:language>en-US</dc:language>
  <cp:lastModifiedBy>Jája a Pája</cp:lastModifiedBy>
  <dcterms:modified xsi:type="dcterms:W3CDTF">2012-11-23T10:08:16Z</dcterms:modified>
  <cp:revision>102</cp:revision>
  <dc:subject/>
  <dc:title>PowerPoint Presentation</dc:title>
</cp:coreProperties>
</file>