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720" y="767880"/>
            <a:ext cx="51163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577AD4D-F54D-433D-A5B0-AE3A980A6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6320" cy="3837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mínit: projekty, které mám na starosti a ty postupně rozebr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eedback z více, než 100 zemí svě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6320" cy="3837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ůraz na zlepšování kvality – zase zmínit smysl kvality v oblasti inovací tzn. Nezapomínat na název prezentace – lepší péče díky inovací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důraznit cíl a výhody – zbytečně nepitvat jednotlivé portály – nebude čas.Zjistit spolupráci s N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současnosti je v pádové studie zapojeno 45 nemoc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632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d roku 2007 proškoleno více než 1500 klient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urzy jsou akredit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yužívání moderních metod – obleček stáří, Steve Wa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6320" cy="3837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 pomocí speciálních senzorů pohybů studentů ošetřovatelství při manipulaci s pacientem – pocitové stimuly změní pohybové návyky studentů i dalších zdravotník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yužití podobných technologií a 3D zobrazení – jako u počítačových her – snímání a vizualizace pohybů páteře – vidíme, co děláme dobře a co špatn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vysílač vibračních stimulů, uděláme-li chybný pohy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jčastější úrazy zdravotníků – úrazy zad – v UK přijdou tato zranění na 400 milionů liber =  16 tisíc zdravotníků naví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ět směřování k cíli – bezpečnější práce = inov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0FD7A-7BE1-474B-9536-77EA2768A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720072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19280" y="4005000"/>
            <a:ext cx="720072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9386E-77B7-4B11-9724-91E7F00E7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08920" y="202896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19280" y="400500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08920" y="400500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F123-44D1-466A-9D03-0B1AF161B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23184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3960" y="2028960"/>
            <a:ext cx="23184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88640" y="2028960"/>
            <a:ext cx="23184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19280" y="4005000"/>
            <a:ext cx="23184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3960" y="4005000"/>
            <a:ext cx="23184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88640" y="4005000"/>
            <a:ext cx="23184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8E971-2EF4-4D8B-9662-6674C3330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19280" y="2028960"/>
            <a:ext cx="72007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72007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351360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08920" y="2028960"/>
            <a:ext cx="351360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19280" y="533520"/>
            <a:ext cx="661968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08920" y="2028960"/>
            <a:ext cx="351360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19280" y="400500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19280" y="2028960"/>
            <a:ext cx="72007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D2017-FE6D-4513-8C7D-68D4952C6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351360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08920" y="202896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08920" y="400500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08920" y="202896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19280" y="4005000"/>
            <a:ext cx="720072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720072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19280" y="4005000"/>
            <a:ext cx="720072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08920" y="202896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19280" y="400500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08920" y="400500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23184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3960" y="2028960"/>
            <a:ext cx="23184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88640" y="2028960"/>
            <a:ext cx="23184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19280" y="4005000"/>
            <a:ext cx="23184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3960" y="4005000"/>
            <a:ext cx="23184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588640" y="4005000"/>
            <a:ext cx="23184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72007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9AC5A-47FF-444B-82CE-571BF527A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351360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08920" y="2028960"/>
            <a:ext cx="351360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BA281-1E94-4553-8C55-5E1FEA304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A89C6-7305-4590-B067-66F74D00D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19280" y="533520"/>
            <a:ext cx="661968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9DDAD-C16C-4425-AB73-035BA756F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08920" y="2028960"/>
            <a:ext cx="351360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19280" y="400500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5D169-9351-402C-80C4-FCF56CBD7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351360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08920" y="202896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08920" y="400500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4880B-7030-4976-B981-8AEADE866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08920" y="2028960"/>
            <a:ext cx="351360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19280" y="4005000"/>
            <a:ext cx="7200720" cy="18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CFD51-C90B-474E-AD2F-795839375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17840" y="6297120"/>
            <a:ext cx="411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net 20</a:t>
            </a: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0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|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18920" y="6297120"/>
            <a:ext cx="14857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Strana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83EF293-4503-4C90-8CFC-7871D3D4977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96080" y="-9360"/>
            <a:ext cx="1457280" cy="103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565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857240"/>
            <a:ext cx="9144000" cy="416268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719280" y="2028960"/>
            <a:ext cx="72007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1199"/>
              </a:spcBef>
              <a:buClr>
                <a:srgbClr val="ee1111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Bef>
                <a:spcPts val="1199"/>
              </a:spcBef>
              <a:buClr>
                <a:srgbClr val="565656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lvl="2" marL="1143000" indent="-228600">
              <a:lnSpc>
                <a:spcPts val="2599"/>
              </a:lnSpc>
              <a:spcBef>
                <a:spcPts val="1199"/>
              </a:spcBef>
              <a:buClr>
                <a:srgbClr val="56565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lvl="3" marL="1600200" indent="-228600">
              <a:lnSpc>
                <a:spcPts val="2599"/>
              </a:lnSpc>
              <a:spcBef>
                <a:spcPts val="11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lvl="4" marL="2057400" indent="-228600">
              <a:lnSpc>
                <a:spcPts val="2599"/>
              </a:lnSpc>
              <a:spcBef>
                <a:spcPts val="11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lvl="5" marL="2057400" indent="-228600">
              <a:lnSpc>
                <a:spcPts val="2599"/>
              </a:lnSpc>
              <a:spcBef>
                <a:spcPts val="11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lvl="6" marL="2057400" indent="-228600">
              <a:lnSpc>
                <a:spcPts val="2599"/>
              </a:lnSpc>
              <a:spcBef>
                <a:spcPts val="11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67560" y="6329520"/>
            <a:ext cx="119052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nna.cz/pady/" TargetMode="External"/><Relationship Id="rId2" Type="http://schemas.openxmlformats.org/officeDocument/2006/relationships/hyperlink" Target="http://www.padovastudie.com/" TargetMode="External"/><Relationship Id="rId3" Type="http://schemas.openxmlformats.org/officeDocument/2006/relationships/hyperlink" Target="http://www.dekubity.nrc.cz/dekubity/" TargetMode="External"/><Relationship Id="rId4" Type="http://schemas.openxmlformats.org/officeDocument/2006/relationships/hyperlink" Target="http://www.lf3.cuni.cz/cs/pracoviste/verejne-zdravotnictvi/NU/aplikace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netscholaris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84480" y="6297480"/>
            <a:ext cx="2894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30.11.2011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680" y="6297480"/>
            <a:ext cx="2936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Arial"/>
              </a:rPr>
              <a:t>Radka Pamětická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Arial"/>
              </a:rPr>
              <a:t>Projektový manager - Marketing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27520" y="5697360"/>
            <a:ext cx="3144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bbe0e3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396200" y="480960"/>
            <a:ext cx="1400040" cy="409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rcRect l="0" t="12274" r="14413" b="34207"/>
          <a:stretch/>
        </p:blipFill>
        <p:spPr>
          <a:xfrm>
            <a:off x="3063960" y="1333440"/>
            <a:ext cx="6080040" cy="5067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7840" y="2612880"/>
            <a:ext cx="5427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epší péče díky inovacím</a:t>
            </a:r>
            <a:br>
              <a:rPr sz="4400"/>
            </a:br>
            <a:endParaRPr b="0" lang="en-US" sz="4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1111"/>
                </a:solidFill>
                <a:latin typeface="Arial"/>
              </a:rPr>
              <a:t>Inovace</a:t>
            </a: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9280" y="2028960"/>
            <a:ext cx="7200720" cy="37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65656"/>
                </a:solidFill>
                <a:latin typeface="Arial"/>
              </a:rPr>
              <a:t>= efektivnější práce – rychlejší, levnější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65656"/>
                </a:solidFill>
                <a:latin typeface="Arial"/>
              </a:rPr>
              <a:t>= bezpečnější práce – pro personál, pro pacienta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65656"/>
                </a:solidFill>
                <a:latin typeface="Arial"/>
              </a:rPr>
              <a:t>= snadnější práce – méně námahy, jednodušší ovládání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65656"/>
                </a:solidFill>
                <a:latin typeface="Arial"/>
              </a:rPr>
              <a:t>= perfektní servis = komplexní služby pro fungování inovace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F5E9-74C3-4990-81D4-04BD59C026BD}" type="slidenum">
              <a:t>10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87480" y="2900520"/>
            <a:ext cx="641988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65656"/>
                </a:solidFill>
                <a:latin typeface="Arial"/>
              </a:rPr>
              <a:t>Děkuji za pozornost.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65656"/>
                </a:solidFill>
                <a:latin typeface="Arial"/>
              </a:rPr>
              <a:t>Ing. Radka Pamětická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e1111"/>
                </a:solidFill>
                <a:latin typeface="Arial"/>
              </a:rPr>
              <a:t>Kontakt: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e1111"/>
                </a:solidFill>
                <a:latin typeface="Arial"/>
              </a:rPr>
              <a:t>Tel:</a:t>
            </a:r>
            <a:r>
              <a:rPr b="0" lang="cs-CZ" sz="2000" spc="-1" strike="noStrike">
                <a:solidFill>
                  <a:srgbClr val="565656"/>
                </a:solidFill>
                <a:latin typeface="Arial"/>
              </a:rPr>
              <a:t> 724 681 657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e1111"/>
                </a:solidFill>
                <a:latin typeface="Arial"/>
              </a:rPr>
              <a:t>E-mail:</a:t>
            </a:r>
            <a:r>
              <a:rPr b="0" lang="cs-CZ" sz="2000" spc="-1" strike="noStrike">
                <a:solidFill>
                  <a:srgbClr val="565656"/>
                </a:solidFill>
                <a:latin typeface="Arial"/>
              </a:rPr>
              <a:t> radka.pameticka@linet.cz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0291B-3B8D-45E6-86F5-2C4B3A24FCE4}" type="slidenum">
              <a:t>1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1111"/>
                </a:solidFill>
                <a:latin typeface="Arial"/>
              </a:rPr>
              <a:t>Kdo je LINET</a:t>
            </a: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72007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1199"/>
              </a:spcBef>
              <a:buClr>
                <a:srgbClr val="ee1111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65656"/>
                </a:solidFill>
                <a:latin typeface="Arial"/>
              </a:rPr>
              <a:t>LINET Group SE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1199"/>
              </a:spcBef>
              <a:buClr>
                <a:srgbClr val="ee1111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65656"/>
                </a:solidFill>
                <a:latin typeface="Arial"/>
              </a:rPr>
              <a:t>Mezi 3 největšími výrobci na světě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1199"/>
              </a:spcBef>
              <a:buClr>
                <a:srgbClr val="ee1111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65656"/>
                </a:solidFill>
                <a:latin typeface="Arial"/>
              </a:rPr>
              <a:t>Distribuce do více jak 100 zemí světa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1199"/>
              </a:spcBef>
              <a:buClr>
                <a:srgbClr val="ee1111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65656"/>
                </a:solidFill>
                <a:latin typeface="Arial"/>
              </a:rPr>
              <a:t>Světový lídr inovativních řešení pro kvalitnější život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1199"/>
              </a:spcBef>
              <a:buClr>
                <a:srgbClr val="ee1111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65656"/>
                </a:solidFill>
                <a:latin typeface="Arial"/>
              </a:rPr>
              <a:t>Člen CzechMed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95BC3-B664-427B-A5EE-6D3C89D4C5B4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1111"/>
                </a:solidFill>
                <a:latin typeface="Arial"/>
              </a:rPr>
              <a:t>Cesta inovací</a:t>
            </a: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72007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ts val="2599"/>
              </a:lnSpc>
              <a:spcBef>
                <a:spcPts val="1199"/>
              </a:spcBef>
              <a:buClr>
                <a:srgbClr val="ee1111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Arial"/>
              </a:rPr>
              <a:t>Sbírání informací z trhu = cesta inovací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39480" indent="-339480">
              <a:lnSpc>
                <a:spcPts val="2599"/>
              </a:lnSpc>
              <a:spcBef>
                <a:spcPts val="1199"/>
              </a:spcBef>
              <a:buClr>
                <a:srgbClr val="ee1111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Arial"/>
              </a:rPr>
              <a:t>Způsoby: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lvl="3" marL="142056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65656"/>
                </a:solidFill>
                <a:latin typeface="Arial"/>
              </a:rPr>
              <a:t>PÁDOVÁ STUDIE</a:t>
            </a:r>
            <a:endParaRPr b="0" lang="en-US" sz="1900" spc="-1" strike="noStrike">
              <a:solidFill>
                <a:srgbClr val="565656"/>
              </a:solidFill>
              <a:latin typeface="Arial"/>
            </a:endParaRPr>
          </a:p>
          <a:p>
            <a:pPr lvl="3" marL="142056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65656"/>
                </a:solidFill>
                <a:latin typeface="Arial"/>
              </a:rPr>
              <a:t>MONITORING SPOKOJENOSTI ZÁKAZNÍKA</a:t>
            </a:r>
            <a:endParaRPr b="0" lang="en-US" sz="1900" spc="-1" strike="noStrike">
              <a:solidFill>
                <a:srgbClr val="565656"/>
              </a:solidFill>
              <a:latin typeface="Arial"/>
            </a:endParaRPr>
          </a:p>
          <a:p>
            <a:pPr lvl="3" marL="142056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65656"/>
                </a:solidFill>
                <a:latin typeface="Arial"/>
              </a:rPr>
              <a:t>ŠKOLENÍ v oblasti zdravotnictví</a:t>
            </a:r>
            <a:endParaRPr b="0" lang="en-US" sz="1900" spc="-1" strike="noStrike">
              <a:solidFill>
                <a:srgbClr val="565656"/>
              </a:solidFill>
              <a:latin typeface="Arial"/>
            </a:endParaRPr>
          </a:p>
          <a:p>
            <a:pPr lvl="3" marL="1420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656"/>
                </a:solidFill>
                <a:latin typeface="Arial"/>
              </a:rPr>
              <a:t>SPOLUPRÁCE S VYSOKÝMI ŠKOLAMI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 lvl="3" marL="1420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656"/>
                </a:solidFill>
                <a:latin typeface="Arial"/>
              </a:rPr>
              <a:t>VLASTNÍ VÝVOJOVÉ STŘEDISKO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 lvl="3" marL="1420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656"/>
                </a:solidFill>
                <a:latin typeface="Arial"/>
              </a:rPr>
              <a:t>VÝVOJOVÉ CENTRUM API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 lvl="3" marL="1420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656"/>
                </a:solidFill>
                <a:latin typeface="Arial"/>
              </a:rPr>
              <a:t>SPOLUPRÁCE S NADNÁRODNÍMI SPOLEČNOSTMI a ZAHRANIČNIMI ODBORNÍK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 lvl="3" marL="1420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656"/>
                </a:solidFill>
                <a:latin typeface="Arial"/>
              </a:rPr>
              <a:t>PODNĚTY k technickým normám Z CELÉHO SVĚTA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 marL="339480" indent="0">
              <a:lnSpc>
                <a:spcPts val="2599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8B58-7A14-4DDF-A693-2B8E1A1E4F8F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1111"/>
                </a:solidFill>
                <a:latin typeface="Arial"/>
              </a:rPr>
              <a:t>Monitoring nežádoucích událostí</a:t>
            </a: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72007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lnSpc>
                <a:spcPts val="25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65656"/>
                </a:solidFill>
                <a:latin typeface="Arial"/>
              </a:rPr>
              <a:t>Národní indikátory kvality péč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29040" indent="-329040">
              <a:lnSpc>
                <a:spcPts val="2599"/>
              </a:lnSpc>
              <a:spcBef>
                <a:spcPts val="601"/>
              </a:spcBef>
              <a:buClr>
                <a:srgbClr val="ee1111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e1111"/>
                </a:solidFill>
                <a:latin typeface="Arial"/>
              </a:rPr>
              <a:t>ČAS/LINET Group SE</a:t>
            </a:r>
            <a:r>
              <a:rPr b="0" lang="cs-CZ" sz="2000" spc="-1" strike="noStrike">
                <a:solidFill>
                  <a:srgbClr val="565656"/>
                </a:solidFill>
                <a:latin typeface="Arial"/>
              </a:rPr>
              <a:t>  </a:t>
            </a:r>
            <a:r>
              <a:rPr b="0" lang="cs-CZ" sz="2000" spc="-1" strike="noStrike" u="sng">
                <a:solidFill>
                  <a:srgbClr val="3ca6d3"/>
                </a:solidFill>
                <a:uFillTx/>
                <a:latin typeface="Arial"/>
                <a:hlinkClick r:id="rId1"/>
              </a:rPr>
              <a:t>http://www.cnna.cz/pady/</a:t>
            </a:r>
            <a:r>
              <a:rPr b="0" lang="cs-CZ" sz="2000" spc="-1" strike="noStrike">
                <a:solidFill>
                  <a:srgbClr val="56565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29040" indent="-329040">
              <a:lnSpc>
                <a:spcPts val="2599"/>
              </a:lnSpc>
              <a:spcBef>
                <a:spcPts val="601"/>
              </a:spcBef>
              <a:buClr>
                <a:srgbClr val="ee1111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3ca6d3"/>
                </a:solidFill>
                <a:uFillTx/>
                <a:latin typeface="Arial"/>
                <a:hlinkClick r:id="rId2"/>
              </a:rPr>
              <a:t>www.padovastudie.com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29040" indent="0">
              <a:lnSpc>
                <a:spcPts val="25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565656"/>
                </a:solidFill>
                <a:latin typeface="Arial"/>
              </a:rPr>
              <a:t>příprava pro mezinárodní sledování 1.1.2012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29040" indent="-329040">
              <a:lnSpc>
                <a:spcPts val="2599"/>
              </a:lnSpc>
              <a:spcBef>
                <a:spcPts val="601"/>
              </a:spcBef>
              <a:buClr>
                <a:srgbClr val="ee1111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e1111"/>
                </a:solidFill>
                <a:latin typeface="Arial"/>
              </a:rPr>
              <a:t>NRC</a:t>
            </a:r>
            <a:r>
              <a:rPr b="0" lang="cs-CZ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3ca6d3"/>
                </a:solidFill>
                <a:uFillTx/>
                <a:latin typeface="Arial"/>
                <a:hlinkClick r:id="rId3"/>
              </a:rPr>
              <a:t>http://www.dekubity.nrc.cz/dekubity/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29040" indent="-329040">
              <a:lnSpc>
                <a:spcPts val="2599"/>
              </a:lnSpc>
              <a:spcBef>
                <a:spcPts val="601"/>
              </a:spcBef>
              <a:buClr>
                <a:srgbClr val="ee1111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e1111"/>
                </a:solidFill>
                <a:latin typeface="Arial"/>
              </a:rPr>
              <a:t>3.lékařská fakulta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29040" indent="0">
              <a:lnSpc>
                <a:spcPts val="25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3ca6d3"/>
                </a:solidFill>
                <a:uFillTx/>
                <a:latin typeface="Arial"/>
                <a:hlinkClick r:id="rId4"/>
              </a:rPr>
              <a:t>http://www.lf3.cuni.cz/cs/pracoviste/verejne-zdravotnictvi/NU/aplikac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29040" indent="-329040">
              <a:lnSpc>
                <a:spcPts val="1998"/>
              </a:lnSpc>
              <a:spcBef>
                <a:spcPts val="499"/>
              </a:spcBef>
              <a:buClr>
                <a:srgbClr val="ee1111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e1111"/>
                </a:solidFill>
                <a:latin typeface="Arial"/>
              </a:rPr>
              <a:t>Cíl</a:t>
            </a:r>
            <a:r>
              <a:rPr b="0" lang="cs-CZ" sz="2000" spc="-1" strike="noStrike">
                <a:solidFill>
                  <a:srgbClr val="565656"/>
                </a:solidFill>
                <a:latin typeface="Arial"/>
              </a:rPr>
              <a:t>: propojení systému = jednotná aplikace = jednoduchý portál přizpůsobený nemocnicím bez duplicitního zadávání dat na různá místa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7C6A9-FF6F-44E7-8FD1-D392B52884C9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1111"/>
                </a:solidFill>
                <a:latin typeface="Arial"/>
              </a:rPr>
              <a:t>LINET SCHOLARIS</a:t>
            </a: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614808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65656"/>
                </a:solidFill>
                <a:latin typeface="Arial"/>
              </a:rPr>
              <a:t>Školení měkkých i produktových znalostí pro lékařský i nelékařský personál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3ca6d3"/>
                </a:solidFill>
                <a:uFillTx/>
                <a:latin typeface="Arial"/>
                <a:hlinkClick r:id="rId1"/>
              </a:rPr>
              <a:t>http://www.linetscholaris.com/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565656"/>
                </a:solidFill>
                <a:latin typeface="Arial"/>
              </a:rPr>
              <a:t>DEN otevřených dveří: 23.3. a 5.10.2012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65656"/>
                </a:solidFill>
                <a:latin typeface="Arial"/>
              </a:rPr>
              <a:t>KURZY e-Learningu v 5 jazycích </a:t>
            </a:r>
            <a:r>
              <a:rPr b="0" lang="cs-CZ" sz="2200" spc="-1" strike="noStrike">
                <a:solidFill>
                  <a:srgbClr val="565656"/>
                </a:solidFill>
                <a:latin typeface="Arial"/>
              </a:rPr>
              <a:t>(ČAS, </a:t>
            </a:r>
            <a:r>
              <a:rPr b="0" lang="cs-CZ" sz="22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565656"/>
                </a:solidFill>
                <a:latin typeface="Arial"/>
              </a:rPr>
              <a:t>   Litoměřice)</a:t>
            </a:r>
            <a:endParaRPr b="0" lang="en-US" sz="2200" spc="-1" strike="noStrike">
              <a:solidFill>
                <a:srgbClr val="565656"/>
              </a:solidFill>
              <a:latin typeface="Arial"/>
            </a:endParaRPr>
          </a:p>
          <a:p>
            <a:pPr lvl="4" marL="1505520" indent="-342720">
              <a:lnSpc>
                <a:spcPct val="9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65656"/>
                </a:solidFill>
                <a:latin typeface="Arial"/>
              </a:rPr>
              <a:t>antidekubitní systémy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4" marL="1505520" indent="-342720">
              <a:lnSpc>
                <a:spcPct val="9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65656"/>
                </a:solidFill>
                <a:latin typeface="Arial"/>
              </a:rPr>
              <a:t>moderní intenzivní péč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4" marL="1505520" indent="-342720">
              <a:lnSpc>
                <a:spcPct val="9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65656"/>
                </a:solidFill>
                <a:latin typeface="Arial"/>
              </a:rPr>
              <a:t>bezpečnost sestry a pacienta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4" marL="1505520" indent="-342720">
              <a:lnSpc>
                <a:spcPct val="90000"/>
              </a:lnSpc>
              <a:spcBef>
                <a:spcPts val="499"/>
              </a:spcBef>
              <a:buClr>
                <a:srgbClr val="ee111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e1111"/>
                </a:solidFill>
                <a:latin typeface="Arial"/>
              </a:rPr>
              <a:t>domácí péč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0" t="52757" r="54119" b="0"/>
          <a:stretch/>
        </p:blipFill>
        <p:spPr>
          <a:xfrm>
            <a:off x="6518160" y="2647800"/>
            <a:ext cx="244152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C2962-4AE3-46E3-BCCC-D5585FEF1B86}" type="slidenum">
              <a:t>5</a:t>
            </a:fld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1111"/>
                </a:solidFill>
                <a:latin typeface="Arial"/>
              </a:rPr>
              <a:t>Inovace ve školení</a:t>
            </a: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8920" y="2028960"/>
            <a:ext cx="352404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1199"/>
              </a:spcBef>
              <a:buClr>
                <a:srgbClr val="ee1111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Arial"/>
              </a:rPr>
              <a:t>Obleček stáří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1199"/>
              </a:spcBef>
              <a:buClr>
                <a:srgbClr val="ee1111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Arial"/>
              </a:rPr>
              <a:t>Senzorový systém pro kontrolu pohybů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0">
              <a:lnSpc>
                <a:spcPts val="2599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91120" y="1863720"/>
            <a:ext cx="3618000" cy="41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F112-60D0-4209-8E0B-5E52AA7363D7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23720" y="1517760"/>
            <a:ext cx="7939080" cy="483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F0C5-6195-42BC-B91C-02D94C75E755}" type="slidenum">
              <a:t>7</a:t>
            </a:fld>
          </a:p>
        </p:txBody>
      </p:sp>
    </p:spTree>
  </p:cSld>
  <p:transition>
    <p:wipe dir="d"/>
  </p:transition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1111"/>
                </a:solidFill>
                <a:latin typeface="Arial"/>
              </a:rPr>
              <a:t>Zpětná vazba z trhu</a:t>
            </a: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19280" y="2028960"/>
            <a:ext cx="72007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1199"/>
              </a:spcBef>
              <a:buClr>
                <a:srgbClr val="ee1111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65656"/>
                </a:solidFill>
                <a:latin typeface="Arial"/>
              </a:rPr>
              <a:t>Sledování spokojenosti zákazníka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0">
              <a:lnSpc>
                <a:spcPts val="2599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565656"/>
                </a:solidFill>
                <a:latin typeface="Arial"/>
              </a:rPr>
              <a:t>Podněty: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0">
              <a:lnSpc>
                <a:spcPts val="2599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65656"/>
                </a:solidFill>
                <a:latin typeface="Arial"/>
              </a:rPr>
              <a:t>Zlepšení procesů v logistice, administrativě i výrobě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0">
              <a:lnSpc>
                <a:spcPts val="2599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65656"/>
                </a:solidFill>
                <a:latin typeface="Arial"/>
              </a:rPr>
              <a:t>Náměty pro další inovace: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0">
              <a:lnSpc>
                <a:spcPts val="2599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65656"/>
                </a:solidFill>
                <a:latin typeface="Arial"/>
              </a:rPr>
              <a:t>i-brake, i-drive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0290-66DB-493B-8161-E121C46297B3}" type="slidenum">
              <a:t>8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9280" y="533520"/>
            <a:ext cx="661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ee1111"/>
                </a:solidFill>
                <a:latin typeface="Arial"/>
              </a:rPr>
              <a:t>i-brake, i-drive</a:t>
            </a:r>
            <a:endParaRPr b="1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rcRect l="2483" t="0" r="4325" b="0"/>
          <a:stretch/>
        </p:blipFill>
        <p:spPr>
          <a:xfrm>
            <a:off x="693720" y="2036880"/>
            <a:ext cx="3916440" cy="3779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rcRect l="6140" t="0" r="0" b="0"/>
          <a:stretch/>
        </p:blipFill>
        <p:spPr>
          <a:xfrm>
            <a:off x="4753080" y="2057400"/>
            <a:ext cx="3771720" cy="37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57A7E-B3C6-4F7F-921A-C38A2CF8B427}" type="slidenum">
              <a:t>9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10:33:15Z</dcterms:created>
  <dc:creator>Skarvan Petr</dc:creator>
  <dc:description/>
  <dc:language>en-US</dc:language>
  <cp:lastModifiedBy>Radka Vintrychova</cp:lastModifiedBy>
  <dcterms:modified xsi:type="dcterms:W3CDTF">2011-11-23T17:23:50Z</dcterms:modified>
  <cp:revision>321</cp:revision>
  <dc:subject/>
  <dc:title>Prezentace aplikace PowerPoint</dc:title>
</cp:coreProperties>
</file>